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gif" ContentType="image/gif"/>
  <Override PartName="/ppt/media/star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7316-09EA-4368-94F4-1457CD559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3D0E-ED36-43AC-BA65-9F5D5E76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6D460-0155-44E3-9838-175B10AC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C358A1-B92B-42D7-9C98-4FEE5587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DB579D-FD6B-4C3F-B5D9-1775E87F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A41F3D-7F5B-4326-88B9-8FCCF920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5DC16-B26D-4683-88B0-422A40B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DC8D3-EFAB-4D13-8260-97B709B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2A8F2-58F3-4CB0-A87F-559A3FC7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69588-EB62-4672-92E0-6DAD607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08A50-52A8-4BED-8F78-20D4F8370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7ADA-577E-4A25-94DA-1CC17A9C1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8F09-7729-4E8F-8B3E-7AFE643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7E777-0510-497C-9393-7533F4E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85F8-780C-4498-915A-8A93C5B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6FB7-8E48-4EDC-84DC-2CC8217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F1F6-D0A5-4776-BE28-9BDE8761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906D-2BE3-40CB-BFE2-20E4E5CF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2D6A-BC06-4C40-B476-E8A005C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833B-A592-40EE-AA3C-01808D1A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3724-A0FB-44B7-83EB-7587B651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5A4D-E3DD-46B9-9DAC-71E947F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C8DC-351C-48D2-AC77-C30660B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9D67-1465-4A90-9535-C72F73467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810F-9620-4492-9320-9C602BD69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DE6EF-A3E4-4777-974C-AD8DDFA9F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D3919-69F0-478D-AEB2-0BC1275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91A496-BA3F-4C61-AAAA-B331225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386A9-F561-4D8B-9F7E-7A984F5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19B87-2FA0-4206-938F-50EA7DA8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BCFB7-29FE-4E29-A240-9E8D0362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DC721-35AA-4596-BC64-E3F5393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6BB82-BB2F-44B4-B9BA-240CCFC2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8FD1C-08E1-4A28-9AA2-D58A469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0D6A7-9BFA-4C8F-A1C9-638747D98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8EE13-DDD6-47ED-A606-B9F6151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4811C-4A07-4284-89DD-380E30A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8BD62-566E-436A-A2BB-00CC01B7E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CA00D-BDAE-4510-8E28-895166F50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30481-2914-4181-AB08-DC185C9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091F5-A0C3-498D-80E3-5E3D83E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6444-8CA1-4894-8D15-8D1AD027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7A16E-8298-443A-A0A3-2A414434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077E3-B033-4793-BA84-CBA2E188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67083-6B4B-42E2-879B-4C5160A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3F6F-A090-40AD-B7D3-E09A9DD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EA8BA-CF61-4E51-9AF2-DC791BD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A3E66-B277-45E5-9FA0-6B24A21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07B29-1465-4CB5-854F-8F0E4E6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805F2-521D-4828-A507-07FB824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2A542-C6BD-4A27-9A47-B2D5F6171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BF60-4E6B-48EB-9B88-E3BBC6EA4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8DDB6-B4A8-41EC-939A-5DC3C92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E241-B0F6-4748-9FDB-D756B1B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DCFEC-9D46-4F8B-B699-23CD40A7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04938-7934-46FA-BA0D-152EBF6C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91DE-FFEA-41F3-9AD7-ECA9F6E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42520-22CC-4FB5-98C8-8AB7BBE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4FD92-D4E7-4DD6-8E3E-7F0C040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572ED-9EF7-44CD-B8C7-1CBA13C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73678-AE01-4BD0-AE9B-2F81D88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9135F-9640-43C4-96D4-461589F6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D6895-B318-4CC8-AD98-0FAF81D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5890-6FF2-41B3-B8C5-0D5546821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5B954-EF4C-4F20-8D86-8D4C087DC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A599A-BE31-40E2-BEB3-1245F129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13E429-3F62-4EDA-8C60-3ADF368D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1D0F9-AD2A-4977-9EFA-816E3A4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1CF6C-C6D0-40CF-860E-1930CBE7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3F8C80-E31F-4A7F-BB8C-26D06DE2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9BD4B-455F-4FFD-9C7F-F167BFF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63EFD-6648-48A9-A01F-2ACCC5A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D6EEC-8EAE-4EB7-A766-B2E58985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6D0D20-3745-45C1-BD23-900FF1A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48A0C-C94E-4F5C-839D-5375843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8F6CF6-CBC4-41EE-8856-37E112F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24E0C-A287-47B2-B480-160138E30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F928EB-FF42-4BCF-90B3-1D03B013B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7866-9C89-497F-91F1-272E91A9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ABE4E9-152C-461D-8D3A-928F03D4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D7184A-7646-4238-A0B9-A0C4BC6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A90556-1DB8-4605-B4F1-CFE4DAFB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FC98B-3F4E-4C70-917D-90711BF4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1F2CEC-E651-4674-802F-EACF317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EF9A8-9873-40EE-AE06-6AB2A4B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6FF2DC-A031-447C-A231-3E0A48E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1BA7F-3E46-4BB3-9EE3-0B1F9834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FC33F1-6AC9-4395-B9C1-60CE9C1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854AE6-A140-4481-BB51-38D3875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F6460-51FE-4716-8A3F-EB731EAC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B21A4E-8331-4F23-B6FD-99E244674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0650-FD87-4982-B5CB-0BDC77D0B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764B8-2EA6-4C7F-8F53-8129EA9D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875AF-1F77-4041-8F1B-152E4B4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7AEC3-0664-48BD-A989-3394BB1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9DBAF-1E9F-403B-9D04-DD4EE5DB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D82C-3D41-4F57-8320-5DA34CED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8A4F-82C4-4D2C-91C7-74FBB52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50AC4-5579-4F3E-8E14-A38C6D47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0C11-EBA2-4427-A34E-B15A2B4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E0538-91BF-4EBA-9D28-D1703B6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6570-4E58-4358-A635-922EE9D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C0A2B-091A-49F2-AC31-0C929B9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7C42C-889D-4AE1-8402-73D4687C3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A001AA-88D2-49EF-8F60-2454C3CCC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E03948-CCD3-4917-A640-F5763067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6F9BA6-3455-4385-A4E0-86328EC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1ED63-33F8-45A7-B8D8-63B11628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936D89-3EE6-425C-842E-FFB40530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9383C7-7C70-4DC3-8A4D-CA89D596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CD760A-BCCA-4A6A-BA5B-4D9E1BB4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4FC1-7E8D-406F-B987-A6C6986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93BD5-56EC-4689-BFE4-9D724B43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81D430-C802-484B-B8DD-274FEF5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30E60-C6ED-4923-81ED-AD35677C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0E7F0B-3C1D-4CFE-9CBD-7093AD2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50D00A-7125-4BE2-88C2-C5ACCEA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C85F06-39AD-4B99-9EA5-E932981737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973CCE-EAC7-44DA-A6FB-C4EFE2A7D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81C01E-C71A-4A2D-B803-27D4A88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B61CAD-0304-4D39-91F8-892C617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F06E5D-57EC-4F3C-91CF-D955D1B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4CEBD7-1557-4D94-BB10-94F36EC5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C2233-F011-4BDD-AC49-ACA4FF6B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AA92F3-9469-4550-867C-AC9E2FB9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3FE0CD-133D-418D-8218-57DF3D41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8767E8-F660-4E81-B20D-2535EAD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111B58-E13E-427B-A0E8-F383FBE9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A178B0-8EF5-4E73-88EB-059F2FBB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840C54-0236-4C42-AD3A-7DBC29A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7AA4C-ACE5-409E-B20C-2A312972C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73E46-F124-4EA7-A123-312519980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439A4-B2AD-40CD-B47A-D15C789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25502-89EA-403E-A899-7B724FA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6E26-AC41-4063-B7C3-9F28554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D89C6-F967-451A-B16A-C594DF77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75357-9FD4-4862-8F7C-F7B7EDA9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BEC21-5AF0-438A-A7B6-51C67318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8F3EE-F1AF-458E-9DFB-1CB8B53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08A1D-146F-4349-92B4-72A5D58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5CFCC-594E-4B70-B4D9-A2C0863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33022-C498-4C7D-BDCC-6F2B12A5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1D761-9B5D-459D-A95E-3FE3E27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1ED5B-D87E-427A-AFCC-0C9B24AC3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0F5EFE-CBCF-4562-A567-CF7900A51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195CB-D68E-405C-BAE9-89DC879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248C44-A9AE-48BD-AB5C-AD67537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60FE51-6FA1-45A3-A229-30323D5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E3E12D-330D-4785-AEF7-AAC3EDC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DDD945-292B-48C7-A240-589149D2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73FE8C-2DD4-4B8D-820A-DE1BE232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B53891-0416-40AC-8250-2C52A6C7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C91684-594C-4224-80DE-857E9D4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D3DC7F-50D5-4888-883D-7FEE54CA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5FD784-9BA4-4D91-83D2-7A06622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8FFFD2-4872-4180-8198-91BEC2E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F96F9-7B09-4997-A99D-10D2A3CAC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7CA757-47DC-4E67-8F61-1198117FC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8CD88B-7FC8-4178-911E-A24A95641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C5B0F9-75B5-43DE-92F0-48B4BC51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79D87C-01E1-4E99-BEA1-3D946F3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ABF474-A331-408D-837A-9C62A96C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275389-0944-49FD-BE47-28367EF0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D508BA-5422-4CA2-9549-233EBF1C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784F9C-BD9B-4029-A057-C0294DE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007FEA-264D-4681-95C4-3247C588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016054-071C-45F2-A2A9-1BF58DB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B9BD-9E59-4D34-B53C-ADF4E4E83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8F5CA2-E3FD-4D3C-BBE5-3913CDD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301FB4-0BE9-483E-866C-8205F17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1D6CFD-6135-4AAA-B4BF-F2C9B69E0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5C0EF-1AFF-49C3-A1E8-74D8E8045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01B4B-997D-4CC6-89BB-F2DE3BBE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B7FDC-F27B-4205-8BAE-1757BF0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8977B-432D-415D-9535-F99E32F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786FC-DFF4-4A30-9E3D-7B7D702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71C19-55C8-4B04-AB37-9DF3738E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0BE2A-188A-4724-904C-2F7D34D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89AF-49A7-45C2-B7D2-D2D6473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8AB27-7F73-4112-893F-B74D366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BEE1A-8E31-4708-AD64-A5FABB5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C8FFE-20E2-48E4-8CCA-1038A9E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416F2-5A10-4093-993F-DBFA1B4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016EB-ECDF-4EED-BB1A-0628ACFDE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6FF92A-7DB4-43FC-A331-D9F884D44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FC13DC-01AD-4319-AAFE-75CB4C3D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991859-B109-4408-AB14-264F3F71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9661F1-580D-4449-9327-2CAC2FE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F7AE72-BAF6-45D8-9A69-1E7B2532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C7AF-A7F0-43F8-A5A4-BF9AE67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0690B0-ADA4-41BA-BEB8-9C7EE9F3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805EBC-0ABB-402E-9547-D34CFD9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08A8ED-64DB-4516-B2AF-556C29F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B361F7-95C4-486D-A27F-4E35225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314A72-5E67-45B4-989E-E683260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26C9D5-2E92-4A8B-A706-3A850B5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CF0E34-3DA2-4E41-AB56-3D4A33D6C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A00756-468C-43C6-9C70-E9AC27FA0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C670A8-1AAF-4EE7-A54B-1F10280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CD0A2B-BE56-4709-AD3C-F06F455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1DA-F950-4071-B229-8838311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9F4D8E-CBD3-4174-9B8E-8A42A7B1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A4C4D7-4E56-47CE-82AC-1E4AA014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C5A070-8A2E-4C37-975D-3DA5E192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B48273-D853-4944-AEC3-F47C8A9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DDDB8C6-A934-47E6-9888-D480C9D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BFE650-7570-4FE3-A2A3-B45FD0D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2AB0A6-DF0C-4426-9DDC-1B16239E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E27777-4486-46E0-BDC6-D9C49CA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C5A201-0754-46B3-A8AC-6777B5050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C4D1E-8090-43BF-8A8F-EB408F3D5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0430-7E7F-4F7E-BC32-9FB1917B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96FF9-2165-498D-ACDF-7185579C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870F1-3131-434C-9C2B-C7F27DF0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5CAEB-AAAD-40CF-8469-E892B79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ADA5A-24BF-48BD-82C9-FE5CFFF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3D650-3BBB-4F56-A96E-6D1B7CC1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90ABF-2D91-4BD4-868B-BC91DCBD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D890B-8DB8-492A-90CD-D384C367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A3DF0-FEFA-4CB0-9FC5-A1588A6C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D4F9F-09A9-4AD0-AAF8-DE62758D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C2AA8-B2E0-42FD-B6A7-8E508CF7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B379-D077-455E-A0D3-6211BB9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083-F6CC-46BE-BDD4-EC1000EF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CFBA7-A3CF-4031-B201-26E0A7D55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7851E5-3BAA-4E67-B2DD-2FAF7B15C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A3E781-5009-4C0D-BDE5-72C83895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C3D001-F4C9-410A-9D45-2FB9ED23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2A78E6-ED92-4E59-9269-6810622B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1BCE99-41BE-4C87-A487-9CA7EF73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471C82-6907-4696-AE41-DE110B8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EEF4C1-1350-4DF3-B4B3-0B27BCEF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10E44E-3655-4D5A-BC3A-FF67214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8FAE9A-7681-4CC3-A646-7373D026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EB3-6137-4169-8684-727980A4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C06C7D-9335-43A4-BF72-C55C4B1C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C85AF4-0A35-4511-8DD6-D167E23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3D836A-2037-405F-A3E9-5669592D4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175F88-0978-44C3-9A1C-3072A8BD0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359E23-30F0-43A9-BD44-D1712638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3D60C4-232A-4098-B3D4-4521CF51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87B5974-B41E-4B6B-B074-6B05869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2AED7C-51F3-4DF1-8EB1-6BA02DD8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456D81-4A69-4C5D-83E1-F8E21AB1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6A991E-8FE6-495F-A47E-B2890426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FD4D-4620-4F10-B50E-1E6CAFA6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F14993-34D2-417B-AFC8-F011E2E6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AD9E74-40CC-4087-A0CD-DD9246F8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B8421C-58E1-4FCE-B16A-27382BE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CE834D-D77E-4CD4-AEFA-C404EC0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DA0B40-CFC5-47B5-8365-F27C9679C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69136-2843-4A1A-ABB5-6170FF11E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C76D6-96A1-4747-AC96-A65990E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FC8B7-38E1-4B08-A850-0AFF0A3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AEA5A-3DC2-4F5F-9D07-2A80E873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11D5C-E689-43A2-9228-3403EB97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F6F-CB3B-40B6-B805-7C9D8E22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6B6CD-7E78-420C-A7D6-6CC09F8E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32A7F-6CD5-49A7-9EFF-F0F16D5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8FF5B-5588-474D-88CF-6EF5AE1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D1BEB-0E62-4C41-AC82-D3E4B72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C1EA4-3F17-402C-8C2B-2D8C5AB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F5F49-68E8-41DF-8E34-B1B3B52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BD9BD-CA61-4A1A-8360-C80347BA8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62C26B-92B9-411C-918B-584718234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584D0F-96DE-41F3-B4AE-9693FD18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15E9B6-92DC-4420-B4FF-5D32658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CD4A-4972-4656-AE53-A8A0A32E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230914-7B4B-4F2F-B432-7ED7F8F9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CE2894-0FC8-4A9B-9BB2-4BDB0D2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12A3F4-47B0-4E50-844B-5F44D25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B862FD-B80E-4811-A7F6-82A5795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5A36E5-8B93-4371-9EC4-FC433CB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433A47-8E45-42C5-AF50-1B5EF93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EC80A5-534B-4C08-BBAD-32E05A3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AD3728-A23E-4808-9265-EC4D663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D31B35-8E24-4C2B-B987-15CCF0C8A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F9D799-D7AF-48D1-9EC5-FD256C8ED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7D0-8F8E-44C3-904D-75EA96E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0F4F77-6802-4E3F-8558-5E988E98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C96080-7E04-41D0-89D3-4F5DBA9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499B08-5E01-4AFB-960F-FA1323C2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B89936-2315-435B-8330-2C9E97BB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2A138B-AF38-4BD5-AA0F-4449A2D1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FE0022-D4F8-4357-89FE-5A76ADD6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D48FB2-BEED-4968-BA82-E0C9452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E1F2414-53BB-46E4-92D4-F175C51A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B907E2-FA70-47F9-ACBC-BE655E4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55DBC5-E634-4677-860F-9A18E4D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E1B-AAD7-4ABC-9B21-23AF11B9B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4BE9CC-D008-4C5C-AD80-929C22567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8E3DD-9E8A-44A3-877C-F34868C4F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03853-2AF9-41A5-9A82-249FDDAE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5FF9B-C699-42EA-B39E-E12C9DF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68690-04D4-403D-9145-B065ABC3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1012C4-3DA0-459E-BCFF-E02EDEFD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3F8EC-5FD5-4236-8CAA-6DAC4E6A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844A9-FF15-42F6-A714-FBB69012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7B65F-6E96-466A-A94E-4B62FEA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C7D10-BE63-4BB0-A5FB-F3910BE7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F566-F1E4-4D9A-BD5B-5B4AFF91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FCF2C-5108-4F30-B3D8-85880B95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3BCAD-9CFA-4DA1-B8C7-0824618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182F4-6DE5-47FC-BC68-B6587657A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28A290D-E2F6-40A5-9F38-FD3D9DD4E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DFA4A6-D831-4375-A484-794FBA0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9A9964-8258-429A-9CF8-A0231AD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6CDD9B-9AEB-4C67-8759-98CA8FD8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00B560-5C52-49B6-9EE6-BA3E77BE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C0C4D5-4ADB-4CE3-A151-7CF52DB2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9B90C8-3A88-486D-BB04-3C99EF45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E4F1-EE69-4D53-9271-A3D8EAE6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CA2E90-94E4-4765-837E-8B894445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5AD33D-0504-4436-A1E1-FBE8F01F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44F499-8C49-4D91-840E-B5F4AA2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A456ED7-03E6-4EEA-85E4-3552B55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0259AD-2B6A-40D0-B105-7C2FFC6A1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D08156-46AA-49D7-B154-6580DD98A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7B9118-2FFF-417D-9A44-8EB5015C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5E76E4-C317-46C2-81AB-CE8F706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25F5E9-B059-41F0-9CB7-0000421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C17CF32-99F4-4B8E-87E2-C4FEDB32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5BA3-E65E-4F98-A945-064D10D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1B957F-4578-4437-BB36-984C2D62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5C2962-E51B-45FD-B5BE-2880FEA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A6293CE-9C3A-4438-B010-6A2282C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D13F46C-38C5-4284-AF2C-01B0B66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AAD5A16-47D4-40C0-9223-17B63D2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AE7E51-ED46-460D-A179-E4D7253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AB9E99-F3DC-423D-A95C-D0DD46F55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992FE-9C38-47D3-A21A-231655C27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93DBC-D087-49FE-B4DE-FE58F00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01F309-1834-4CE3-8054-77E041FB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0A0F-A2D8-4F54-A05D-981BA03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619C-A6FC-41D4-B33D-8F01F3C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0C5DC-E1F7-4DAB-BE8A-BD7863D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7480D4-0026-4BC4-BE38-C38BF196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27566-7809-468B-BB51-160324AE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73213A-503F-4897-8D21-ECDA118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E65CE-4BC6-4C92-95EB-4A564FC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18DA3D-6983-4F01-BD34-46D6ABD6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4D2013-AC26-4178-BB1C-883F8924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DDE60-825D-442D-BCE4-5B79883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4D50C-93FC-4536-BC9A-B3924CF2A5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F9253B-E627-4F8B-A723-C05AF924C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139F-1916-45E2-9215-4FBEF25E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4E95BA-D644-40CE-8B38-3A7827C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577036-8AB9-4B1C-9EED-45878A12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22F45D-FA4D-4464-9F0C-ACC28D32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D4553F-0FBA-43D8-A1C0-555A205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0AA1DF-7392-4B39-B1BE-AC0B382C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E5628B-B487-4B2E-A3AD-034E5CC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68661E-5374-47FD-B874-F3DA130B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7EBC4F-EECE-47A3-BFFB-DD3634F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8993D2-11E4-442B-A667-E7BF7CB5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E02F95-D75D-45F2-A549-44C4522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72DB-8701-4A51-8BEB-3BDB4E8A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083DB5-D11D-4A4A-BE07-EC80DBF0F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E64E79-BE05-4D54-A90E-AF3350B89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20014D-FDFC-4E80-93E9-31513FA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8ADAC6-A260-42DC-B923-D44A9184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8CDD38-E962-440D-88D6-6BA3B9C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7B42AC-BC5B-4902-B8D0-F4610910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F65A90-2FAD-474D-A931-249AB6C5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A97905-6B44-4AB7-AC2B-439C403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3782D4-A604-4B6A-9852-E2A0E360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537157-7CDE-4175-B37E-793EC69E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F859-F82E-4FC2-B59C-A6FB7F5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3EB984-4334-4C65-AFCF-BE61284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0A7CF6-2458-4FBC-8AE9-6B5CE8C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610B528-B827-4EFF-9A98-10B1B33738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F3B0BF-1DA6-4F91-81C3-03CBA263A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C5F63A-8B34-4521-B080-877B3184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35F999-1F16-4ACA-AF34-06919172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D4976-AC8B-465C-997D-2D26FD4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2AD565-4DAB-4D7A-9648-79D0C52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48DF56-212B-4E2C-B5D8-B40322E7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7680C0-B98E-4016-BB6E-99700C5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CB41-362E-4E73-9B3A-FE0EE1A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7CF217-646F-4E0E-BFCA-94294E64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76815-A9BD-4FAB-9E77-E7FD6D28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79D90E-CF51-458D-AAF0-BB085A2C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32A50-885F-4BAE-BA53-D5845A8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6012D9-DAA8-4290-82EF-0B110879D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275B31-141C-4947-861E-DBA68771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67C5CF-E76F-4B4D-B7C7-3ECCBED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C75D5B-DED4-47B1-ACEA-F9B056D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9C1F23-4C59-43A9-AD7C-943E873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D8123E-49F8-45C1-9D15-7A6DE66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B101-2BFC-4E1A-9025-73A195E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BF4702-0922-4E27-9DB1-5F345F8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D34664-A9D1-4E56-946B-B54477A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5F77F5-0C72-4E51-8554-3D8E44D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1E4DAF-2E79-4841-8B79-12E9AA5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98B016-918E-4CD2-AE57-962ED85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BA289A-3ED7-411B-A4C3-35677F42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131A4E-7879-4ADE-999E-2D8F763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A68162-6535-4032-BEC4-56EF212B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062306-398C-43A8-9AF1-81260B3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3300E-8E20-4510-98FD-7C8EDF9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EDF2-F073-4021-AABA-1C94E302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C80E91-57EC-46A5-8315-91C8EE0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4FE5A0-47AC-4740-B793-5E0A8F7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A0863E-D296-4CB8-A75D-68B36DB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B608A6-3F96-4AB0-9AC1-435E43D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52F444-4EBF-4252-A6D8-52D5817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EFBC72-DE11-4B3B-A65E-FE31946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0A2411-6FBD-4765-811C-3E7B404F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D0B5B-6230-4076-918A-B8CD1620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BAF402-CAB2-47C7-8CF0-8B76B1A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241FF5-7A28-475D-BAA9-0072CAB8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593E-5229-4084-A3FF-8A04FBB7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283B52-D9C0-4679-965B-5A09EBC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2ADA70-68FA-4449-8C6E-518E752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20977A-6DBD-4FC5-AB16-78C4030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93877C-A637-46E9-B5BE-1284946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E82AA0-1164-42F2-9A2E-F8FF336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1327DB-192E-416D-B82E-CC03DE0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39A2AB-D35A-4438-BCB0-75481142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42C7F3-6571-483A-B0A9-78B3349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90BF8-687B-4060-9460-C4EC27A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A3E134-9291-46B4-AAB8-FD97F264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EAB1-B3CF-42FF-8583-C0F4D1B6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0C7B2B-DAEF-46F4-BD05-C7CF2867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8EEA52-4A5F-4ACD-9672-4292F90E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9A9DDF-4C7C-4380-AFB3-D309126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421DC0-E22B-40F1-828C-4BFBC02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0E230D-1A7D-4033-928B-743BCFB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D106DD-0B99-4159-8DCC-9959EB4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A6ABCD-BAF4-4714-B131-BFEB9AB2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36700E-C25C-426A-859B-AA4E2EE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697FDE-C06D-4DDF-88E4-EDF4F5A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D212C3-89EE-436C-88C2-5F7FBED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B3009-33CB-4CC5-B740-EC1F78BCE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6A61C3-343E-47FE-A403-29E69224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3310B-8AE0-4B62-88E5-D6CFFDA1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D46AE6-91A0-4748-8D9D-59FFFB9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DDFF5-9314-4CCC-A5BF-6B77C8E5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F4F126-3F21-45A0-BC94-9940ECE3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AA8416-3729-43D1-8E52-51DF993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3CEB1C-28A6-4CB9-A8E2-90A3CEA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6B7CF1-D5AF-4176-92D5-F306FB7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F95D9C-66A4-45A7-A876-803E3536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6FC1D8-1152-4BEB-AC60-8A46F41C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CBB3-D050-46AF-896E-CF328A54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77220-3940-43DC-884B-A56D0DF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6EEF6-E274-430E-80F0-0AD8887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171A9D-20DE-4A9F-8EE6-ABE5E694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668D4B-EC0D-4040-A2D1-75D0173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A9F24B-FEC9-492A-B13F-0971BEF0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0CA844-977D-4B3F-92B5-494826D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F488FA-1993-4F71-B646-E5065DCF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9849B1-C916-41CF-92DA-726FF97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421615-5F9A-4BFE-A592-1A74003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3C2D55-7CE0-484B-B246-B4FDEFB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58AECC-11B9-49F9-AD33-C04EE71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FDEBD-D633-4252-A4F6-B010218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831DC3-8C5C-4243-A87C-1BB7AA3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A05FCF-C309-498F-89A9-8BF9DEA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8C890A-9826-4C49-944E-55BB99B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251A65-8EDC-4A80-AB1D-F3AB06B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403073-6200-4B1F-A5BC-5D72B8B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822B2C-E74F-4176-A212-84855395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C65200-000A-4F4E-AAAA-2338B15A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69DF91-C38C-481E-BAA8-6E613B5A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C984A9-7CBD-4812-9D98-041E389C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802670-B708-4E33-82AF-534C8770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17AE6-22CB-451D-80D8-4D47D87A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9BF078-334B-4E4D-B956-FB61F58E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F94E01-C3FA-42A0-9002-CCAE3DDE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0D77D0-99AC-4B1C-9664-F7ECCDF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B6370E-8D0E-4466-AEB5-3036179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11B72E-CC5D-4982-AA9E-3A1756A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9810B7-59E4-4F4A-9147-46596DE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94CD2A-EC68-4FB1-A5B6-9A6EADC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E60C04-2378-464B-AAA6-E08ECC6F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D5BD70-0417-4F01-A586-7654D59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D5F30E-4EF0-45D3-A0EF-E5CF6C48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F1AFA-B731-49B2-813F-C5B7C80C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DF5D18-1994-4088-B6F3-06B6D5C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D67F0-F5B1-4588-A433-A823806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7DD64A-4951-4AFB-B8F3-9029923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1DE447-61DE-4F04-A03D-E726B8DD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AB51D9-0AC3-41F2-8A2D-78AE438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8A5BA7-DE54-4B33-82F2-13BBB12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403178-0B7F-4DC1-B9A0-C1FDC51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257B40-194E-442D-AB67-4F68B604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B8F85F-E5AD-4E4B-ADD5-B4EFBF6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C6923F-DE95-4124-B994-B25CACA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65B4F-F1DE-4E00-B435-99514F65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E90453-16A6-4745-953F-2F8AEA2F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78D3A-0284-436F-90BC-65B1FA1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2B23E0-656F-4C12-A752-AB77B94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97912C-3BDA-4C97-ADE0-6A2D8BB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7DD493-5EAE-47E2-BBE5-7E7D5AC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B242B8-A569-4253-B8A4-1DE7AB1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21090E-047F-4E3F-BA14-5827E05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867C86-2EF4-44BF-8567-3CBCCA5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68DFAA-40C3-4ABF-87AB-90E1349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762F1E-57FB-4730-920D-395997D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61FAB-8D10-44A3-A443-4A59163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6C41FD-0BBE-4436-91BF-F8100F2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7388B0-F943-4DD2-B247-AD259EE8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38F312-652B-4C30-945C-37723894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1F47C0-3BDC-40C8-8ADF-46FE34EE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F9B892-22DB-422E-985C-CC095CDE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B88CEE-5692-4B8C-A8D8-7D57C0D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D553C3-5C36-459B-BEE5-C6ADD9D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79E5C3-C3E1-49CF-B93B-6339F79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4AC253-3537-47DA-A2A0-FCA682D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52F65A-3AE8-4E00-B39C-276A787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312D6-236A-4B78-9826-36329B2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A3A9A6-2B92-443E-9F8F-4420126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35AB51-0811-4265-8A5C-B1DE9DC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55A1CC-4B22-4241-A040-70D26A3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4C45A9-5B99-4113-936E-BA21DE5A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455ED7-CA3F-481D-AF20-1B9947A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6C6169-F3E4-4F8B-9FE2-91ED8240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783DEA-582B-4FED-864C-70BC205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D1CFF5-0F5B-4C7D-8C29-316C3E6E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1FCDBA-D5CF-4CD2-A4C0-DE78837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FF5EF2-6D08-4949-A6A0-D5CE4CD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6C911-CC3D-4FD3-9EA3-61F4D8B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D37E18-7718-4C1A-BA89-71B5FE1F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838145-906F-4B85-B0A8-16BA27C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833E2F-BCC1-4F91-A366-2123BDB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BF53FB-4229-4C52-B79F-DC6BF1F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5D96D6-9F58-4FE5-BE53-DF0B0D8A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DD351D-4BEB-494B-96B1-FCB0DED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EA6F95-8BE6-4552-A40B-3298CA03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32B74-44DF-425B-B274-BF8B9F3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E0E7A-180F-46E0-ACF4-07D754A3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50B6-7DA3-49DE-820C-30337DE7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A3482-BC81-4B38-8B25-71C2C7C3E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A940C-FFD9-4A31-A968-D6BA99822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08FAE-A650-470F-8225-7DF53BB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31351-6AE8-467E-A34D-19819AE5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F51FF-0640-413B-AD95-96B9B4C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EDF63-D598-457F-AF1A-13165DC4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30197-2E55-4032-A62A-2FD60899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E3502-D67B-49D8-951B-258B047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4193BC-B84D-4BDC-A7BA-6FBDE0ED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DF9C3-B44B-4A81-A540-38357B63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A533-7C7A-48B0-B6FF-6653D84F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3A4DE-50AE-4C22-BE0A-500C1D4B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130A0-0383-4446-82D1-D6AA38E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5542C-0BAC-413A-A51D-E64A029DE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B799-49C0-4EDB-A50D-1905D79D9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F2F4-4531-413B-8E58-2105F57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275A-5F76-48E6-9A1F-B41E9BE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E7CE-05AD-4AEB-BAD5-6FFF776F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B451-0F62-430E-8C79-DBA8F7C6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03DA-F711-4992-B5AC-D3654051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FFDD-EC3D-4F8E-9282-2E979DA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0328-BACF-426F-B0D4-70E4985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D5F7-38EA-4E2A-BB73-64B1C22B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2B7A-D251-4F0E-908A-ADA83C87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55C93-DD1F-4DB6-9223-56A27AFD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0061-881C-4B1C-9816-6E0FB47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8695-ABF0-48C7-9268-C3959006E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86E01-3429-4D07-87FE-3236C153A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DDE99-F6D0-4672-B479-BC58636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0D264-D234-46EB-94C5-9585BBF0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F83AA-F6C4-4AF9-824C-DCEA649C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5A8AA-B35F-4DA1-B9A4-52BBFFBB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FCD7-BFFA-412E-B8B1-CA54365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BB76A-54E0-423C-ABFD-E484C074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53BD5-A331-4679-A70D-41678AF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CC2F5-CE44-4365-86AC-7D35BA8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28C0C-9ABD-40DA-B415-6C821495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A68FA-BAA7-4F8D-A384-1FCC1E90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43648-8C48-4AAB-95B6-E8667ED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BFAFB-0141-44F8-9C88-53B0D66EA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79FDE-D67C-41B1-B10F-AB2F6951B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975D20-1509-41A3-878D-0297400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B3C52-3880-475E-AE26-922F909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7649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椭圆 27650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" name="椭圆 27651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" name="椭圆 27652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" name="椭圆 27653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" name="椭圆 27654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C3D4-8967-4546-8D61-6CA2E580DAD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EF5-54C5-4459-81D5-CECF95166D7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8079-67DA-4241-B6D0-282BC98026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D918-6515-4D49-A620-0E05FE77ED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AF2-8874-4191-B849-12FC26C4CCB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4D3-1674-437D-8F93-B9B2772208B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24D2-5D4D-4796-BB75-44767B2A78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2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A18-418C-405A-AB10-2DD9E716B19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DE0-518C-485F-A005-C1F3D8EB00F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37A-7321-4A1A-9C58-F44CC25127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1BF-AEB7-4980-B1AB-24B845A4D2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0A0-9341-421A-8F0D-676CA046E2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757-7327-4171-ABDE-5EEA58DF329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BA98-8750-49B0-A6D2-619D9454B4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959-AB16-4E91-BB29-86CCAA9728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F892-770A-45C3-A642-3CE8F577B8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3077-3218-487E-B880-782EE50EE7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FCD0-101A-4C4C-9B3F-DA0DBFA944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C63F-C0FA-4FAD-B5D3-5D762966502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sldNum" idx="5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CBC-3E6A-476A-8094-500B8364FE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5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62E-5804-4768-A1FC-7AEA9ED1EDC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EED-FD38-4D89-BF93-985A6BB01D7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8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102C-B154-410C-9AA5-BD16D3F2E8C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6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66D-97FD-4A80-9F02-AE0510C603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6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1D7-385A-4F28-8B06-911CD2B310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88CD-7620-4094-AA95-3AAC79BC02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sldNum" idx="6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646B-595E-4291-8912-B662FEBFE16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6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D855-FA2B-4D76-A14A-D54420DA60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0045-0B48-43BF-9942-2B9B485AD9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sldNum" idx="7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C3D-BD59-4E49-9338-5CD9A141CA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7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01A-F1DD-4473-AAED-2AE4FAA7461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F2C-A742-4CD8-9D37-3D71ED18C17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432-5C86-40BE-84EA-AEDBE62DB8A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572-44D8-4CCA-BF26-582886FB113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36B4-F3F9-4196-A389-F1A3D724AF4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0D9-6E16-4F05-A252-CF97E4264BF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AB0-1653-44CA-AE90-8D94B3985A1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1B6E-A836-4986-B0B4-C488E5E6939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B1E8-0ECE-491B-994C-DD20B1A65D3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3735-9215-4300-A96A-67601424D5A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815B-0351-4944-8A11-3259740F133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229-159B-42CB-9AA6-58C6627D6F9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188-76FD-4419-867E-EAEF9F1962E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5A9-EF89-416B-837B-4F6B03A239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56B-F0BC-4518-B6E5-A898AF843B3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CE2-F0CC-4AD9-81D2-61E06E55B32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876-7B7F-43BE-AA24-2138DBAF9B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8B07-138D-42BB-85DA-BC9C1E1C771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矩形 5136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7" name="矩形 5137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8" name="Rectangle 7"/>
          <p:cNvSpPr/>
          <p:nvPr/>
        </p:nvSpPr>
        <p:spPr>
          <a:xfrm>
            <a:off x="1692360" y="76500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9" name="TextBox 3"/>
          <p:cNvSpPr/>
          <p:nvPr/>
        </p:nvSpPr>
        <p:spPr>
          <a:xfrm>
            <a:off x="1585800" y="236700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整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70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755640" y="836640"/>
            <a:ext cx="785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2"/>
          <p:cNvSpPr/>
          <p:nvPr/>
        </p:nvSpPr>
        <p:spPr>
          <a:xfrm>
            <a:off x="577800" y="33148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宋体"/>
              </a:rPr>
              <a:t>（一）出示信息，明确问题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4" name="Rectangle 2"/>
          <p:cNvSpPr/>
          <p:nvPr/>
        </p:nvSpPr>
        <p:spPr>
          <a:xfrm>
            <a:off x="1376280" y="3943440"/>
            <a:ext cx="8185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试着用图表示出题意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5" name="Rectangle 2"/>
          <p:cNvSpPr/>
          <p:nvPr/>
        </p:nvSpPr>
        <p:spPr>
          <a:xfrm>
            <a:off x="684360" y="2276640"/>
            <a:ext cx="71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小新、爸爸、妈妈一起吃一个蛋糕，每人吃   个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共吃多少个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6" name="组合 19462"/>
          <p:cNvGrpSpPr/>
          <p:nvPr/>
        </p:nvGrpSpPr>
        <p:grpSpPr>
          <a:xfrm>
            <a:off x="6296040" y="1989000"/>
            <a:ext cx="365040" cy="824760"/>
            <a:chOff x="6296040" y="1989000"/>
            <a:chExt cx="365040" cy="824760"/>
          </a:xfrm>
        </p:grpSpPr>
        <p:sp>
          <p:nvSpPr>
            <p:cNvPr id="1977" name="文本框 19463"/>
            <p:cNvSpPr/>
            <p:nvPr/>
          </p:nvSpPr>
          <p:spPr>
            <a:xfrm>
              <a:off x="6296040" y="235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8" name="文本框 19464"/>
            <p:cNvSpPr/>
            <p:nvPr/>
          </p:nvSpPr>
          <p:spPr>
            <a:xfrm>
              <a:off x="6300720" y="198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9" name="直接连接符 19465"/>
            <p:cNvSpPr/>
            <p:nvPr/>
          </p:nvSpPr>
          <p:spPr>
            <a:xfrm>
              <a:off x="6335640" y="241776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80" name="矩形 1946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1" name="矩形 1946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二）探究意义，感悟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4" name="Rectangle 2"/>
          <p:cNvSpPr/>
          <p:nvPr/>
        </p:nvSpPr>
        <p:spPr>
          <a:xfrm>
            <a:off x="179280" y="191772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示意图表示题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5" name="Rectangle 2"/>
          <p:cNvSpPr/>
          <p:nvPr/>
        </p:nvSpPr>
        <p:spPr>
          <a:xfrm>
            <a:off x="108000" y="37180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线段图表示题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6" name="组合 20485"/>
          <p:cNvGrpSpPr/>
          <p:nvPr/>
        </p:nvGrpSpPr>
        <p:grpSpPr>
          <a:xfrm>
            <a:off x="990720" y="2492280"/>
            <a:ext cx="5290920" cy="1364040"/>
            <a:chOff x="990720" y="2492280"/>
            <a:chExt cx="5290920" cy="1364040"/>
          </a:xfrm>
        </p:grpSpPr>
        <p:grpSp>
          <p:nvGrpSpPr>
            <p:cNvPr id="1987" name="组合 20486"/>
            <p:cNvGrpSpPr/>
            <p:nvPr/>
          </p:nvGrpSpPr>
          <p:grpSpPr>
            <a:xfrm>
              <a:off x="990720" y="2492280"/>
              <a:ext cx="3130560" cy="1364040"/>
              <a:chOff x="990720" y="2492280"/>
              <a:chExt cx="3130560" cy="1364040"/>
            </a:xfrm>
          </p:grpSpPr>
          <p:pic>
            <p:nvPicPr>
              <p:cNvPr id="1988" name="图片 20487" descr="01"/>
              <p:cNvPicPr/>
              <p:nvPr/>
            </p:nvPicPr>
            <p:blipFill>
              <a:blip r:embed="rId1"/>
              <a:stretch/>
            </p:blipFill>
            <p:spPr>
              <a:xfrm>
                <a:off x="990720" y="2492280"/>
                <a:ext cx="313056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9" name="右大括号 20488"/>
              <p:cNvSpPr/>
              <p:nvPr/>
            </p:nvSpPr>
            <p:spPr>
              <a:xfrm flipV="1" rot="5400000">
                <a:off x="2482200" y="2140560"/>
                <a:ext cx="109440" cy="2663640"/>
              </a:xfrm>
              <a:custGeom>
                <a:avLst/>
                <a:gdLst>
                  <a:gd name="textAreaLeft" fmla="*/ 0 w 109440"/>
                  <a:gd name="textAreaRight" fmla="*/ 39600 w 109440"/>
                  <a:gd name="textAreaTop" fmla="*/ 69120 h 2663640"/>
                  <a:gd name="textAreaBottom" fmla="*/ 2594520 h 26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0" name="文本框 20489"/>
              <p:cNvSpPr/>
              <p:nvPr/>
            </p:nvSpPr>
            <p:spPr>
              <a:xfrm>
                <a:off x="2214720" y="3457440"/>
                <a:ext cx="115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个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991" name="图片 20490" descr="02"/>
            <p:cNvPicPr/>
            <p:nvPr/>
          </p:nvPicPr>
          <p:blipFill>
            <a:blip r:embed="rId2"/>
            <a:stretch/>
          </p:blipFill>
          <p:spPr>
            <a:xfrm>
              <a:off x="4662360" y="2532240"/>
              <a:ext cx="161928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2" name="组合 20491"/>
          <p:cNvGrpSpPr/>
          <p:nvPr/>
        </p:nvGrpSpPr>
        <p:grpSpPr>
          <a:xfrm>
            <a:off x="1116000" y="4191120"/>
            <a:ext cx="3994200" cy="1759320"/>
            <a:chOff x="1116000" y="4191120"/>
            <a:chExt cx="3994200" cy="1759320"/>
          </a:xfrm>
        </p:grpSpPr>
        <p:grpSp>
          <p:nvGrpSpPr>
            <p:cNvPr id="1993" name="组合 20492"/>
            <p:cNvGrpSpPr/>
            <p:nvPr/>
          </p:nvGrpSpPr>
          <p:grpSpPr>
            <a:xfrm>
              <a:off x="1116000" y="4191120"/>
              <a:ext cx="3994200" cy="1147320"/>
              <a:chOff x="1116000" y="4191120"/>
              <a:chExt cx="3994200" cy="1147320"/>
            </a:xfrm>
          </p:grpSpPr>
          <p:grpSp>
            <p:nvGrpSpPr>
              <p:cNvPr id="1994" name="组合 20493"/>
              <p:cNvGrpSpPr/>
              <p:nvPr/>
            </p:nvGrpSpPr>
            <p:grpSpPr>
              <a:xfrm>
                <a:off x="1116000" y="4952520"/>
                <a:ext cx="3994200" cy="385920"/>
                <a:chOff x="1116000" y="4952520"/>
                <a:chExt cx="3994200" cy="385920"/>
              </a:xfrm>
            </p:grpSpPr>
            <p:pic>
              <p:nvPicPr>
                <p:cNvPr id="1995" name="图片 20494" descr="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16000" y="5166000"/>
                  <a:ext cx="3994200" cy="17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6" name="右大括号 20495"/>
                <p:cNvSpPr/>
                <p:nvPr/>
              </p:nvSpPr>
              <p:spPr>
                <a:xfrm flipV="1" rot="16200000">
                  <a:off x="1516320" y="4597200"/>
                  <a:ext cx="143640" cy="86544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440"/>
                    <a:gd name="textAreaBottom" fmla="*/ 843120 h 865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97" name="右大括号 20496"/>
                <p:cNvSpPr/>
                <p:nvPr/>
              </p:nvSpPr>
              <p:spPr>
                <a:xfrm flipV="1" rot="16200000">
                  <a:off x="2389320" y="4597560"/>
                  <a:ext cx="143640" cy="86508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080"/>
                    <a:gd name="textAreaBottom" fmla="*/ 842760 h 86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98" name="右大括号 20497"/>
                <p:cNvSpPr/>
                <p:nvPr/>
              </p:nvSpPr>
              <p:spPr>
                <a:xfrm flipV="1" rot="16200000">
                  <a:off x="3254400" y="4591440"/>
                  <a:ext cx="143640" cy="86508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080"/>
                    <a:gd name="textAreaBottom" fmla="*/ 842760 h 86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999" name="组合 20498"/>
              <p:cNvGrpSpPr/>
              <p:nvPr/>
            </p:nvGrpSpPr>
            <p:grpSpPr>
              <a:xfrm>
                <a:off x="1427040" y="4191120"/>
                <a:ext cx="365040" cy="824760"/>
                <a:chOff x="1427040" y="4191120"/>
                <a:chExt cx="365040" cy="824760"/>
              </a:xfrm>
            </p:grpSpPr>
            <p:sp>
              <p:nvSpPr>
                <p:cNvPr id="2000" name="文本框 20499"/>
                <p:cNvSpPr/>
                <p:nvPr/>
              </p:nvSpPr>
              <p:spPr>
                <a:xfrm>
                  <a:off x="1427040" y="45561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1" name="文本框 20500"/>
                <p:cNvSpPr/>
                <p:nvPr/>
              </p:nvSpPr>
              <p:spPr>
                <a:xfrm>
                  <a:off x="1431720" y="4191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2" name="直接连接符 20501"/>
                <p:cNvSpPr/>
                <p:nvPr/>
              </p:nvSpPr>
              <p:spPr>
                <a:xfrm>
                  <a:off x="1466640" y="461988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03" name="组合 20502"/>
              <p:cNvGrpSpPr/>
              <p:nvPr/>
            </p:nvGrpSpPr>
            <p:grpSpPr>
              <a:xfrm>
                <a:off x="2300400" y="4202280"/>
                <a:ext cx="365040" cy="824760"/>
                <a:chOff x="2300400" y="4202280"/>
                <a:chExt cx="365040" cy="824760"/>
              </a:xfrm>
            </p:grpSpPr>
            <p:sp>
              <p:nvSpPr>
                <p:cNvPr id="2004" name="文本框 20503"/>
                <p:cNvSpPr/>
                <p:nvPr/>
              </p:nvSpPr>
              <p:spPr>
                <a:xfrm>
                  <a:off x="2300400" y="45673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5" name="文本框 20504"/>
                <p:cNvSpPr/>
                <p:nvPr/>
              </p:nvSpPr>
              <p:spPr>
                <a:xfrm>
                  <a:off x="2305080" y="420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6" name="直接连接符 20505"/>
                <p:cNvSpPr/>
                <p:nvPr/>
              </p:nvSpPr>
              <p:spPr>
                <a:xfrm>
                  <a:off x="2340000" y="4631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07" name="组合 20506"/>
              <p:cNvGrpSpPr/>
              <p:nvPr/>
            </p:nvGrpSpPr>
            <p:grpSpPr>
              <a:xfrm>
                <a:off x="3160800" y="4202280"/>
                <a:ext cx="365040" cy="824760"/>
                <a:chOff x="3160800" y="4202280"/>
                <a:chExt cx="365040" cy="824760"/>
              </a:xfrm>
            </p:grpSpPr>
            <p:sp>
              <p:nvSpPr>
                <p:cNvPr id="2008" name="文本框 20507"/>
                <p:cNvSpPr/>
                <p:nvPr/>
              </p:nvSpPr>
              <p:spPr>
                <a:xfrm>
                  <a:off x="3160800" y="45673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9" name="文本框 20508"/>
                <p:cNvSpPr/>
                <p:nvPr/>
              </p:nvSpPr>
              <p:spPr>
                <a:xfrm>
                  <a:off x="3165480" y="420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0" name="直接连接符 20509"/>
                <p:cNvSpPr/>
                <p:nvPr/>
              </p:nvSpPr>
              <p:spPr>
                <a:xfrm>
                  <a:off x="3200400" y="4631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011" name="左大括号 20510"/>
            <p:cNvSpPr/>
            <p:nvPr/>
          </p:nvSpPr>
          <p:spPr>
            <a:xfrm rot="16200000">
              <a:off x="2371680" y="4200120"/>
              <a:ext cx="182520" cy="259236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67320 h 2592360"/>
                <a:gd name="textAreaBottom" fmla="*/ 252504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2" name="矩形 20511"/>
            <p:cNvSpPr/>
            <p:nvPr/>
          </p:nvSpPr>
          <p:spPr>
            <a:xfrm>
              <a:off x="2364840" y="5551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13" name="矩形 20513"/>
          <p:cNvSpPr/>
          <p:nvPr/>
        </p:nvSpPr>
        <p:spPr>
          <a:xfrm>
            <a:off x="5383080" y="3789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二）探究意义，感悟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6" name="Rectangle 2"/>
          <p:cNvSpPr/>
          <p:nvPr/>
        </p:nvSpPr>
        <p:spPr>
          <a:xfrm>
            <a:off x="684360" y="227664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    是多少可以怎样列式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7" name="Rectangle 2"/>
          <p:cNvSpPr/>
          <p:nvPr/>
        </p:nvSpPr>
        <p:spPr>
          <a:xfrm>
            <a:off x="755640" y="35020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还可以怎样列式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8" name="Text Box 21"/>
          <p:cNvSpPr/>
          <p:nvPr/>
        </p:nvSpPr>
        <p:spPr>
          <a:xfrm>
            <a:off x="4633920" y="3583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19" name="组合 21510"/>
          <p:cNvGrpSpPr/>
          <p:nvPr/>
        </p:nvGrpSpPr>
        <p:grpSpPr>
          <a:xfrm>
            <a:off x="2076480" y="2119320"/>
            <a:ext cx="365040" cy="824760"/>
            <a:chOff x="2076480" y="2119320"/>
            <a:chExt cx="365040" cy="824760"/>
          </a:xfrm>
        </p:grpSpPr>
        <p:sp>
          <p:nvSpPr>
            <p:cNvPr id="2020" name="文本框 21511"/>
            <p:cNvSpPr/>
            <p:nvPr/>
          </p:nvSpPr>
          <p:spPr>
            <a:xfrm>
              <a:off x="2076480" y="2484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1" name="文本框 21512"/>
            <p:cNvSpPr/>
            <p:nvPr/>
          </p:nvSpPr>
          <p:spPr>
            <a:xfrm>
              <a:off x="2081160" y="2119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2" name="直接连接符 21513"/>
            <p:cNvSpPr/>
            <p:nvPr/>
          </p:nvSpPr>
          <p:spPr>
            <a:xfrm>
              <a:off x="2116080" y="254808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3" name="组合 21514"/>
          <p:cNvGrpSpPr/>
          <p:nvPr/>
        </p:nvGrpSpPr>
        <p:grpSpPr>
          <a:xfrm>
            <a:off x="5100480" y="2101680"/>
            <a:ext cx="1762200" cy="824760"/>
            <a:chOff x="5100480" y="2101680"/>
            <a:chExt cx="1762200" cy="824760"/>
          </a:xfrm>
        </p:grpSpPr>
        <p:grpSp>
          <p:nvGrpSpPr>
            <p:cNvPr id="2024" name="组合 21515"/>
            <p:cNvGrpSpPr/>
            <p:nvPr/>
          </p:nvGrpSpPr>
          <p:grpSpPr>
            <a:xfrm>
              <a:off x="5100480" y="2101680"/>
              <a:ext cx="365040" cy="824760"/>
              <a:chOff x="5100480" y="2101680"/>
              <a:chExt cx="365040" cy="824760"/>
            </a:xfrm>
          </p:grpSpPr>
          <p:sp>
            <p:nvSpPr>
              <p:cNvPr id="2025" name="文本框 21516"/>
              <p:cNvSpPr/>
              <p:nvPr/>
            </p:nvSpPr>
            <p:spPr>
              <a:xfrm>
                <a:off x="510048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6" name="文本框 21517"/>
              <p:cNvSpPr/>
              <p:nvPr/>
            </p:nvSpPr>
            <p:spPr>
              <a:xfrm>
                <a:off x="510516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7" name="直接连接符 21518"/>
              <p:cNvSpPr/>
              <p:nvPr/>
            </p:nvSpPr>
            <p:spPr>
              <a:xfrm>
                <a:off x="514008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28" name="文本框 21519"/>
            <p:cNvSpPr/>
            <p:nvPr/>
          </p:nvSpPr>
          <p:spPr>
            <a:xfrm>
              <a:off x="5403600" y="2317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29" name="组合 21520"/>
            <p:cNvGrpSpPr/>
            <p:nvPr/>
          </p:nvGrpSpPr>
          <p:grpSpPr>
            <a:xfrm>
              <a:off x="5815080" y="2101680"/>
              <a:ext cx="365040" cy="824760"/>
              <a:chOff x="5815080" y="2101680"/>
              <a:chExt cx="365040" cy="824760"/>
            </a:xfrm>
          </p:grpSpPr>
          <p:sp>
            <p:nvSpPr>
              <p:cNvPr id="2030" name="文本框 21521"/>
              <p:cNvSpPr/>
              <p:nvPr/>
            </p:nvSpPr>
            <p:spPr>
              <a:xfrm>
                <a:off x="581508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1" name="文本框 21522"/>
              <p:cNvSpPr/>
              <p:nvPr/>
            </p:nvSpPr>
            <p:spPr>
              <a:xfrm>
                <a:off x="581976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2" name="直接连接符 21523"/>
              <p:cNvSpPr/>
              <p:nvPr/>
            </p:nvSpPr>
            <p:spPr>
              <a:xfrm>
                <a:off x="585468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33" name="文本框 21524"/>
            <p:cNvSpPr/>
            <p:nvPr/>
          </p:nvSpPr>
          <p:spPr>
            <a:xfrm>
              <a:off x="6099120" y="2317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34" name="组合 21525"/>
            <p:cNvGrpSpPr/>
            <p:nvPr/>
          </p:nvGrpSpPr>
          <p:grpSpPr>
            <a:xfrm>
              <a:off x="6497640" y="2101680"/>
              <a:ext cx="365040" cy="824760"/>
              <a:chOff x="6497640" y="2101680"/>
              <a:chExt cx="365040" cy="824760"/>
            </a:xfrm>
          </p:grpSpPr>
          <p:sp>
            <p:nvSpPr>
              <p:cNvPr id="2035" name="文本框 21526"/>
              <p:cNvSpPr/>
              <p:nvPr/>
            </p:nvSpPr>
            <p:spPr>
              <a:xfrm>
                <a:off x="649764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6" name="文本框 21527"/>
              <p:cNvSpPr/>
              <p:nvPr/>
            </p:nvSpPr>
            <p:spPr>
              <a:xfrm>
                <a:off x="650232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7" name="直接连接符 21528"/>
              <p:cNvSpPr/>
              <p:nvPr/>
            </p:nvSpPr>
            <p:spPr>
              <a:xfrm>
                <a:off x="653724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38" name="组合 21529"/>
          <p:cNvGrpSpPr/>
          <p:nvPr/>
        </p:nvGrpSpPr>
        <p:grpSpPr>
          <a:xfrm>
            <a:off x="3763800" y="3390840"/>
            <a:ext cx="979200" cy="824760"/>
            <a:chOff x="3763800" y="3390840"/>
            <a:chExt cx="979200" cy="824760"/>
          </a:xfrm>
        </p:grpSpPr>
        <p:grpSp>
          <p:nvGrpSpPr>
            <p:cNvPr id="2039" name="组合 21530"/>
            <p:cNvGrpSpPr/>
            <p:nvPr/>
          </p:nvGrpSpPr>
          <p:grpSpPr>
            <a:xfrm>
              <a:off x="3763800" y="3390840"/>
              <a:ext cx="365040" cy="824760"/>
              <a:chOff x="3763800" y="3390840"/>
              <a:chExt cx="365040" cy="824760"/>
            </a:xfrm>
          </p:grpSpPr>
          <p:sp>
            <p:nvSpPr>
              <p:cNvPr id="2040" name="文本框 21531"/>
              <p:cNvSpPr/>
              <p:nvPr/>
            </p:nvSpPr>
            <p:spPr>
              <a:xfrm>
                <a:off x="3763800" y="37558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1" name="文本框 21532"/>
              <p:cNvSpPr/>
              <p:nvPr/>
            </p:nvSpPr>
            <p:spPr>
              <a:xfrm>
                <a:off x="376848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2" name="直接连接符 21533"/>
              <p:cNvSpPr/>
              <p:nvPr/>
            </p:nvSpPr>
            <p:spPr>
              <a:xfrm>
                <a:off x="3803400" y="38196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43" name="文本框 21534"/>
            <p:cNvSpPr/>
            <p:nvPr/>
          </p:nvSpPr>
          <p:spPr>
            <a:xfrm>
              <a:off x="4038480" y="3606480"/>
              <a:ext cx="7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4" name="组合 21535"/>
          <p:cNvGrpSpPr/>
          <p:nvPr/>
        </p:nvGrpSpPr>
        <p:grpSpPr>
          <a:xfrm>
            <a:off x="5067360" y="3351240"/>
            <a:ext cx="893880" cy="824760"/>
            <a:chOff x="5067360" y="3351240"/>
            <a:chExt cx="893880" cy="824760"/>
          </a:xfrm>
        </p:grpSpPr>
        <p:grpSp>
          <p:nvGrpSpPr>
            <p:cNvPr id="2045" name="组合 21536"/>
            <p:cNvGrpSpPr/>
            <p:nvPr/>
          </p:nvGrpSpPr>
          <p:grpSpPr>
            <a:xfrm>
              <a:off x="5596200" y="3351240"/>
              <a:ext cx="365040" cy="824760"/>
              <a:chOff x="5596200" y="3351240"/>
              <a:chExt cx="365040" cy="824760"/>
            </a:xfrm>
          </p:grpSpPr>
          <p:sp>
            <p:nvSpPr>
              <p:cNvPr id="2046" name="文本框 21537"/>
              <p:cNvSpPr/>
              <p:nvPr/>
            </p:nvSpPr>
            <p:spPr>
              <a:xfrm>
                <a:off x="5596200" y="3716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7" name="文本框 21538"/>
              <p:cNvSpPr/>
              <p:nvPr/>
            </p:nvSpPr>
            <p:spPr>
              <a:xfrm>
                <a:off x="5600880" y="335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8" name="直接连接符 21539"/>
              <p:cNvSpPr/>
              <p:nvPr/>
            </p:nvSpPr>
            <p:spPr>
              <a:xfrm>
                <a:off x="5635800" y="37800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49" name="文本框 21540"/>
            <p:cNvSpPr/>
            <p:nvPr/>
          </p:nvSpPr>
          <p:spPr>
            <a:xfrm>
              <a:off x="5067360" y="3592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三）深化理解，总结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2" name="Rectangle 2"/>
          <p:cNvSpPr/>
          <p:nvPr/>
        </p:nvSpPr>
        <p:spPr>
          <a:xfrm>
            <a:off x="623880" y="1917720"/>
            <a:ext cx="777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3" name="Rectangle 2"/>
          <p:cNvSpPr/>
          <p:nvPr/>
        </p:nvSpPr>
        <p:spPr>
          <a:xfrm>
            <a:off x="704880" y="2570040"/>
            <a:ext cx="712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学生尝试解答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4" name="Text Box 7"/>
          <p:cNvSpPr/>
          <p:nvPr/>
        </p:nvSpPr>
        <p:spPr>
          <a:xfrm>
            <a:off x="782640" y="312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5" name="Text Box 8"/>
          <p:cNvSpPr/>
          <p:nvPr/>
        </p:nvSpPr>
        <p:spPr>
          <a:xfrm>
            <a:off x="2124000" y="34941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6" name="Rectangle 2"/>
          <p:cNvSpPr/>
          <p:nvPr/>
        </p:nvSpPr>
        <p:spPr>
          <a:xfrm>
            <a:off x="768240" y="3565440"/>
            <a:ext cx="626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乘得的积是不是最简分数？应该怎么办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7" name="Text Box 11"/>
          <p:cNvSpPr/>
          <p:nvPr/>
        </p:nvSpPr>
        <p:spPr>
          <a:xfrm>
            <a:off x="784080" y="43005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8" name="Text Box 12"/>
          <p:cNvSpPr/>
          <p:nvPr/>
        </p:nvSpPr>
        <p:spPr>
          <a:xfrm>
            <a:off x="784080" y="550080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9" name="Rectangle 2"/>
          <p:cNvSpPr/>
          <p:nvPr/>
        </p:nvSpPr>
        <p:spPr>
          <a:xfrm>
            <a:off x="782640" y="486900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约分的？有没有不同的约分方法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0" name="Rectangle 2"/>
          <p:cNvSpPr/>
          <p:nvPr/>
        </p:nvSpPr>
        <p:spPr>
          <a:xfrm>
            <a:off x="642960" y="6093000"/>
            <a:ext cx="8569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观察比较以上两种约分的过程有什么不同，你喜欢哪个？说说想法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61" name="组合 22540"/>
          <p:cNvGrpSpPr/>
          <p:nvPr/>
        </p:nvGrpSpPr>
        <p:grpSpPr>
          <a:xfrm>
            <a:off x="1039680" y="1882800"/>
            <a:ext cx="979200" cy="824760"/>
            <a:chOff x="1039680" y="1882800"/>
            <a:chExt cx="979200" cy="824760"/>
          </a:xfrm>
        </p:grpSpPr>
        <p:grpSp>
          <p:nvGrpSpPr>
            <p:cNvPr id="2062" name="组合 22541"/>
            <p:cNvGrpSpPr/>
            <p:nvPr/>
          </p:nvGrpSpPr>
          <p:grpSpPr>
            <a:xfrm>
              <a:off x="1039680" y="1882800"/>
              <a:ext cx="365040" cy="824760"/>
              <a:chOff x="1039680" y="1882800"/>
              <a:chExt cx="365040" cy="824760"/>
            </a:xfrm>
          </p:grpSpPr>
          <p:sp>
            <p:nvSpPr>
              <p:cNvPr id="2063" name="文本框 22542"/>
              <p:cNvSpPr/>
              <p:nvPr/>
            </p:nvSpPr>
            <p:spPr>
              <a:xfrm>
                <a:off x="1039680" y="2247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4" name="文本框 22543"/>
              <p:cNvSpPr/>
              <p:nvPr/>
            </p:nvSpPr>
            <p:spPr>
              <a:xfrm>
                <a:off x="1044360" y="1882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5" name="直接连接符 22544"/>
              <p:cNvSpPr/>
              <p:nvPr/>
            </p:nvSpPr>
            <p:spPr>
              <a:xfrm>
                <a:off x="1079280" y="23115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66" name="文本框 22545"/>
            <p:cNvSpPr/>
            <p:nvPr/>
          </p:nvSpPr>
          <p:spPr>
            <a:xfrm>
              <a:off x="1314360" y="2098440"/>
              <a:ext cx="7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67" name="组合 22546"/>
          <p:cNvGrpSpPr/>
          <p:nvPr/>
        </p:nvGrpSpPr>
        <p:grpSpPr>
          <a:xfrm>
            <a:off x="1814400" y="2859120"/>
            <a:ext cx="2443320" cy="840240"/>
            <a:chOff x="1814400" y="2859120"/>
            <a:chExt cx="2443320" cy="840240"/>
          </a:xfrm>
        </p:grpSpPr>
        <p:grpSp>
          <p:nvGrpSpPr>
            <p:cNvPr id="2068" name="组合 22547"/>
            <p:cNvGrpSpPr/>
            <p:nvPr/>
          </p:nvGrpSpPr>
          <p:grpSpPr>
            <a:xfrm>
              <a:off x="1814400" y="2874600"/>
              <a:ext cx="365040" cy="824760"/>
              <a:chOff x="1814400" y="2874600"/>
              <a:chExt cx="365040" cy="824760"/>
            </a:xfrm>
          </p:grpSpPr>
          <p:sp>
            <p:nvSpPr>
              <p:cNvPr id="2069" name="文本框 22548"/>
              <p:cNvSpPr/>
              <p:nvPr/>
            </p:nvSpPr>
            <p:spPr>
              <a:xfrm>
                <a:off x="1814400" y="3239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0" name="文本框 22549"/>
              <p:cNvSpPr/>
              <p:nvPr/>
            </p:nvSpPr>
            <p:spPr>
              <a:xfrm>
                <a:off x="1819080" y="2874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1" name="直接连接符 22550"/>
              <p:cNvSpPr/>
              <p:nvPr/>
            </p:nvSpPr>
            <p:spPr>
              <a:xfrm>
                <a:off x="1854000" y="33033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72" name="文本框 22551"/>
            <p:cNvSpPr/>
            <p:nvPr/>
          </p:nvSpPr>
          <p:spPr>
            <a:xfrm>
              <a:off x="2079720" y="3090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3" name="文本框 22552"/>
            <p:cNvSpPr/>
            <p:nvPr/>
          </p:nvSpPr>
          <p:spPr>
            <a:xfrm>
              <a:off x="3101760" y="32302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4" name="文本框 22553"/>
            <p:cNvSpPr/>
            <p:nvPr/>
          </p:nvSpPr>
          <p:spPr>
            <a:xfrm>
              <a:off x="2889360" y="286524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5" name="直接连接符 22554"/>
            <p:cNvSpPr/>
            <p:nvPr/>
          </p:nvSpPr>
          <p:spPr>
            <a:xfrm>
              <a:off x="2924280" y="3294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6" name="矩形 22555"/>
            <p:cNvSpPr/>
            <p:nvPr/>
          </p:nvSpPr>
          <p:spPr>
            <a:xfrm>
              <a:off x="3558600" y="3081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77" name="组合 22556"/>
            <p:cNvGrpSpPr/>
            <p:nvPr/>
          </p:nvGrpSpPr>
          <p:grpSpPr>
            <a:xfrm>
              <a:off x="3892680" y="2859120"/>
              <a:ext cx="365040" cy="824760"/>
              <a:chOff x="3892680" y="2859120"/>
              <a:chExt cx="365040" cy="824760"/>
            </a:xfrm>
          </p:grpSpPr>
          <p:sp>
            <p:nvSpPr>
              <p:cNvPr id="2078" name="文本框 22557"/>
              <p:cNvSpPr/>
              <p:nvPr/>
            </p:nvSpPr>
            <p:spPr>
              <a:xfrm>
                <a:off x="3892680" y="3224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9" name="文本框 22558"/>
              <p:cNvSpPr/>
              <p:nvPr/>
            </p:nvSpPr>
            <p:spPr>
              <a:xfrm>
                <a:off x="3897360" y="2859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80" name="直接连接符 22559"/>
              <p:cNvSpPr/>
              <p:nvPr/>
            </p:nvSpPr>
            <p:spPr>
              <a:xfrm>
                <a:off x="3932280" y="32878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81" name="组合 22560"/>
          <p:cNvGrpSpPr/>
          <p:nvPr/>
        </p:nvGrpSpPr>
        <p:grpSpPr>
          <a:xfrm>
            <a:off x="1773360" y="3857760"/>
            <a:ext cx="3081240" cy="1247760"/>
            <a:chOff x="1773360" y="3857760"/>
            <a:chExt cx="3081240" cy="1247760"/>
          </a:xfrm>
        </p:grpSpPr>
        <p:grpSp>
          <p:nvGrpSpPr>
            <p:cNvPr id="2082" name="组合 22561"/>
            <p:cNvGrpSpPr/>
            <p:nvPr/>
          </p:nvGrpSpPr>
          <p:grpSpPr>
            <a:xfrm>
              <a:off x="1773360" y="3857760"/>
              <a:ext cx="3081240" cy="1247760"/>
              <a:chOff x="1773360" y="3857760"/>
              <a:chExt cx="3081240" cy="1247760"/>
            </a:xfrm>
          </p:grpSpPr>
          <p:grpSp>
            <p:nvGrpSpPr>
              <p:cNvPr id="2083" name="组合 22562"/>
              <p:cNvGrpSpPr/>
              <p:nvPr/>
            </p:nvGrpSpPr>
            <p:grpSpPr>
              <a:xfrm>
                <a:off x="1773360" y="4059000"/>
                <a:ext cx="2443320" cy="839880"/>
                <a:chOff x="1773360" y="4059000"/>
                <a:chExt cx="2443320" cy="839880"/>
              </a:xfrm>
            </p:grpSpPr>
            <p:grpSp>
              <p:nvGrpSpPr>
                <p:cNvPr id="2084" name="组合 22563"/>
                <p:cNvGrpSpPr/>
                <p:nvPr/>
              </p:nvGrpSpPr>
              <p:grpSpPr>
                <a:xfrm>
                  <a:off x="1773360" y="4074480"/>
                  <a:ext cx="365040" cy="824400"/>
                  <a:chOff x="1773360" y="4074480"/>
                  <a:chExt cx="365040" cy="824400"/>
                </a:xfrm>
              </p:grpSpPr>
              <p:sp>
                <p:nvSpPr>
                  <p:cNvPr id="2085" name="文本框 22564"/>
                  <p:cNvSpPr/>
                  <p:nvPr/>
                </p:nvSpPr>
                <p:spPr>
                  <a:xfrm>
                    <a:off x="1773360" y="4439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6" name="文本框 22565"/>
                  <p:cNvSpPr/>
                  <p:nvPr/>
                </p:nvSpPr>
                <p:spPr>
                  <a:xfrm>
                    <a:off x="1778040" y="40744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7" name="直接连接符 22566"/>
                  <p:cNvSpPr/>
                  <p:nvPr/>
                </p:nvSpPr>
                <p:spPr>
                  <a:xfrm>
                    <a:off x="1812960" y="450288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088" name="文本框 22567"/>
                <p:cNvSpPr/>
                <p:nvPr/>
              </p:nvSpPr>
              <p:spPr>
                <a:xfrm>
                  <a:off x="2038680" y="4290480"/>
                  <a:ext cx="1093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</a:rPr>
                    <a:t>×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89" name="文本框 22568"/>
                <p:cNvSpPr/>
                <p:nvPr/>
              </p:nvSpPr>
              <p:spPr>
                <a:xfrm>
                  <a:off x="3060720" y="4430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0" name="文本框 22569"/>
                <p:cNvSpPr/>
                <p:nvPr/>
              </p:nvSpPr>
              <p:spPr>
                <a:xfrm>
                  <a:off x="2848320" y="406512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×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1" name="直接连接符 22570"/>
                <p:cNvSpPr/>
                <p:nvPr/>
              </p:nvSpPr>
              <p:spPr>
                <a:xfrm>
                  <a:off x="2883240" y="4493520"/>
                  <a:ext cx="609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2" name="矩形 22571"/>
                <p:cNvSpPr/>
                <p:nvPr/>
              </p:nvSpPr>
              <p:spPr>
                <a:xfrm>
                  <a:off x="3517560" y="428112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2093" name="组合 22572"/>
                <p:cNvGrpSpPr/>
                <p:nvPr/>
              </p:nvGrpSpPr>
              <p:grpSpPr>
                <a:xfrm>
                  <a:off x="3851640" y="4059000"/>
                  <a:ext cx="365040" cy="824400"/>
                  <a:chOff x="3851640" y="4059000"/>
                  <a:chExt cx="365040" cy="824400"/>
                </a:xfrm>
              </p:grpSpPr>
              <p:sp>
                <p:nvSpPr>
                  <p:cNvPr id="2094" name="文本框 22573"/>
                  <p:cNvSpPr/>
                  <p:nvPr/>
                </p:nvSpPr>
                <p:spPr>
                  <a:xfrm>
                    <a:off x="3851640" y="44236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95" name="文本框 22574"/>
                  <p:cNvSpPr/>
                  <p:nvPr/>
                </p:nvSpPr>
                <p:spPr>
                  <a:xfrm>
                    <a:off x="3856320" y="40590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96" name="直接连接符 22575"/>
                  <p:cNvSpPr/>
                  <p:nvPr/>
                </p:nvSpPr>
                <p:spPr>
                  <a:xfrm>
                    <a:off x="3891240" y="448740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2097" name="直接连接符 22576"/>
              <p:cNvSpPr/>
              <p:nvPr/>
            </p:nvSpPr>
            <p:spPr>
              <a:xfrm>
                <a:off x="3870360" y="4582800"/>
                <a:ext cx="287280" cy="1425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98" name="文本框 22577"/>
              <p:cNvSpPr/>
              <p:nvPr/>
            </p:nvSpPr>
            <p:spPr>
              <a:xfrm>
                <a:off x="3856320" y="385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99" name="文本框 22578"/>
              <p:cNvSpPr/>
              <p:nvPr/>
            </p:nvSpPr>
            <p:spPr>
              <a:xfrm>
                <a:off x="3861000" y="47066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0" name="文本框 22579"/>
              <p:cNvSpPr/>
              <p:nvPr/>
            </p:nvSpPr>
            <p:spPr>
              <a:xfrm>
                <a:off x="4102200" y="4251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01" name="组合 22580"/>
              <p:cNvGrpSpPr/>
              <p:nvPr/>
            </p:nvGrpSpPr>
            <p:grpSpPr>
              <a:xfrm>
                <a:off x="4489560" y="4039920"/>
                <a:ext cx="365040" cy="824400"/>
                <a:chOff x="4489560" y="4039920"/>
                <a:chExt cx="365040" cy="824400"/>
              </a:xfrm>
            </p:grpSpPr>
            <p:sp>
              <p:nvSpPr>
                <p:cNvPr id="2102" name="文本框 22581"/>
                <p:cNvSpPr/>
                <p:nvPr/>
              </p:nvSpPr>
              <p:spPr>
                <a:xfrm>
                  <a:off x="4489560" y="440460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3" name="文本框 22582"/>
                <p:cNvSpPr/>
                <p:nvPr/>
              </p:nvSpPr>
              <p:spPr>
                <a:xfrm>
                  <a:off x="4494240" y="40399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4" name="直接连接符 22583"/>
                <p:cNvSpPr/>
                <p:nvPr/>
              </p:nvSpPr>
              <p:spPr>
                <a:xfrm>
                  <a:off x="4529160" y="446832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105" name="直接连接符 22584"/>
            <p:cNvSpPr/>
            <p:nvPr/>
          </p:nvSpPr>
          <p:spPr>
            <a:xfrm>
              <a:off x="3861000" y="4222440"/>
              <a:ext cx="287280" cy="14256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06" name="组合 22585"/>
          <p:cNvGrpSpPr/>
          <p:nvPr/>
        </p:nvGrpSpPr>
        <p:grpSpPr>
          <a:xfrm>
            <a:off x="1968480" y="5230800"/>
            <a:ext cx="2568240" cy="1100520"/>
            <a:chOff x="1968480" y="5230800"/>
            <a:chExt cx="2568240" cy="1100520"/>
          </a:xfrm>
        </p:grpSpPr>
        <p:grpSp>
          <p:nvGrpSpPr>
            <p:cNvPr id="2107" name="组合 22586"/>
            <p:cNvGrpSpPr/>
            <p:nvPr/>
          </p:nvGrpSpPr>
          <p:grpSpPr>
            <a:xfrm>
              <a:off x="4171680" y="5248440"/>
              <a:ext cx="365040" cy="824760"/>
              <a:chOff x="4171680" y="5248440"/>
              <a:chExt cx="365040" cy="824760"/>
            </a:xfrm>
          </p:grpSpPr>
          <p:sp>
            <p:nvSpPr>
              <p:cNvPr id="2108" name="文本框 22587"/>
              <p:cNvSpPr/>
              <p:nvPr/>
            </p:nvSpPr>
            <p:spPr>
              <a:xfrm>
                <a:off x="4171680" y="5613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9" name="文本框 22588"/>
              <p:cNvSpPr/>
              <p:nvPr/>
            </p:nvSpPr>
            <p:spPr>
              <a:xfrm>
                <a:off x="4176360" y="524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0" name="直接连接符 22589"/>
              <p:cNvSpPr/>
              <p:nvPr/>
            </p:nvSpPr>
            <p:spPr>
              <a:xfrm>
                <a:off x="4211280" y="56772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11" name="组合 22590"/>
            <p:cNvGrpSpPr/>
            <p:nvPr/>
          </p:nvGrpSpPr>
          <p:grpSpPr>
            <a:xfrm>
              <a:off x="1968480" y="5230800"/>
              <a:ext cx="2303280" cy="1100520"/>
              <a:chOff x="1968480" y="5230800"/>
              <a:chExt cx="2303280" cy="1100520"/>
            </a:xfrm>
          </p:grpSpPr>
          <p:sp>
            <p:nvSpPr>
              <p:cNvPr id="2112" name="文本框 22591"/>
              <p:cNvSpPr/>
              <p:nvPr/>
            </p:nvSpPr>
            <p:spPr>
              <a:xfrm>
                <a:off x="3066840" y="5932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13" name="组合 22592"/>
              <p:cNvGrpSpPr/>
              <p:nvPr/>
            </p:nvGrpSpPr>
            <p:grpSpPr>
              <a:xfrm>
                <a:off x="1968480" y="5230800"/>
                <a:ext cx="2303280" cy="855000"/>
                <a:chOff x="1968480" y="5230800"/>
                <a:chExt cx="2303280" cy="855000"/>
              </a:xfrm>
            </p:grpSpPr>
            <p:grpSp>
              <p:nvGrpSpPr>
                <p:cNvPr id="2114" name="组合 22593"/>
                <p:cNvGrpSpPr/>
                <p:nvPr/>
              </p:nvGrpSpPr>
              <p:grpSpPr>
                <a:xfrm>
                  <a:off x="1968480" y="5259600"/>
                  <a:ext cx="2303280" cy="826200"/>
                  <a:chOff x="1968480" y="5259600"/>
                  <a:chExt cx="2303280" cy="826200"/>
                </a:xfrm>
              </p:grpSpPr>
              <p:grpSp>
                <p:nvGrpSpPr>
                  <p:cNvPr id="2115" name="组合 22594"/>
                  <p:cNvGrpSpPr/>
                  <p:nvPr/>
                </p:nvGrpSpPr>
                <p:grpSpPr>
                  <a:xfrm>
                    <a:off x="1968480" y="5261040"/>
                    <a:ext cx="365040" cy="824760"/>
                    <a:chOff x="1968480" y="5261040"/>
                    <a:chExt cx="365040" cy="824760"/>
                  </a:xfrm>
                </p:grpSpPr>
                <p:sp>
                  <p:nvSpPr>
                    <p:cNvPr id="2116" name="文本框 22595"/>
                    <p:cNvSpPr/>
                    <p:nvPr/>
                  </p:nvSpPr>
                  <p:spPr>
                    <a:xfrm>
                      <a:off x="1968480" y="562608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17" name="文本框 22596"/>
                    <p:cNvSpPr/>
                    <p:nvPr/>
                  </p:nvSpPr>
                  <p:spPr>
                    <a:xfrm>
                      <a:off x="1973160" y="526104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18" name="直接连接符 22597"/>
                    <p:cNvSpPr/>
                    <p:nvPr/>
                  </p:nvSpPr>
                  <p:spPr>
                    <a:xfrm>
                      <a:off x="2008080" y="5689800"/>
                      <a:ext cx="2527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119" name="文本框 22598"/>
                  <p:cNvSpPr/>
                  <p:nvPr/>
                </p:nvSpPr>
                <p:spPr>
                  <a:xfrm>
                    <a:off x="2233440" y="5477040"/>
                    <a:ext cx="1093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2120" name="组合 22599"/>
                  <p:cNvGrpSpPr/>
                  <p:nvPr/>
                </p:nvGrpSpPr>
                <p:grpSpPr>
                  <a:xfrm>
                    <a:off x="3057480" y="5259600"/>
                    <a:ext cx="365040" cy="824760"/>
                    <a:chOff x="3057480" y="5259600"/>
                    <a:chExt cx="365040" cy="824760"/>
                  </a:xfrm>
                </p:grpSpPr>
                <p:sp>
                  <p:nvSpPr>
                    <p:cNvPr id="2121" name="文本框 22600"/>
                    <p:cNvSpPr/>
                    <p:nvPr/>
                  </p:nvSpPr>
                  <p:spPr>
                    <a:xfrm>
                      <a:off x="3057480" y="562464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22" name="文本框 22601"/>
                    <p:cNvSpPr/>
                    <p:nvPr/>
                  </p:nvSpPr>
                  <p:spPr>
                    <a:xfrm>
                      <a:off x="3062160" y="52596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23" name="直接连接符 22602"/>
                    <p:cNvSpPr/>
                    <p:nvPr/>
                  </p:nvSpPr>
                  <p:spPr>
                    <a:xfrm>
                      <a:off x="3097080" y="5688360"/>
                      <a:ext cx="2527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124" name="文本框 22603"/>
                  <p:cNvSpPr/>
                  <p:nvPr/>
                </p:nvSpPr>
                <p:spPr>
                  <a:xfrm>
                    <a:off x="3336840" y="5475240"/>
                    <a:ext cx="934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125" name="直接连接符 22604"/>
                <p:cNvSpPr/>
                <p:nvPr/>
              </p:nvSpPr>
              <p:spPr>
                <a:xfrm>
                  <a:off x="3101760" y="5797440"/>
                  <a:ext cx="287280" cy="1429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26" name="直接连接符 22605"/>
                <p:cNvSpPr/>
                <p:nvPr/>
              </p:nvSpPr>
              <p:spPr>
                <a:xfrm>
                  <a:off x="3624120" y="5600880"/>
                  <a:ext cx="287280" cy="1429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27" name="文本框 22606"/>
                <p:cNvSpPr/>
                <p:nvPr/>
              </p:nvSpPr>
              <p:spPr>
                <a:xfrm>
                  <a:off x="3595680" y="52308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2"/>
          <p:cNvSpPr/>
          <p:nvPr/>
        </p:nvSpPr>
        <p:spPr>
          <a:xfrm>
            <a:off x="531720" y="43560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9" name="Rectangle 2"/>
          <p:cNvSpPr/>
          <p:nvPr/>
        </p:nvSpPr>
        <p:spPr>
          <a:xfrm>
            <a:off x="1324080" y="4788000"/>
            <a:ext cx="734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决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袋重多少千克”这个问题，请你列出算式并计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1" name="Text Box 6"/>
          <p:cNvSpPr/>
          <p:nvPr/>
        </p:nvSpPr>
        <p:spPr>
          <a:xfrm>
            <a:off x="1981080" y="159696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袋面包重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2" name="Text Box 11"/>
          <p:cNvSpPr/>
          <p:nvPr/>
        </p:nvSpPr>
        <p:spPr>
          <a:xfrm>
            <a:off x="2593800" y="39337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袋重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3" name="Rectangle 2"/>
          <p:cNvSpPr/>
          <p:nvPr/>
        </p:nvSpPr>
        <p:spPr>
          <a:xfrm>
            <a:off x="539640" y="6122880"/>
            <a:ext cx="860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结：观察上面两道题的计算过程，说说分数与整数相乘是怎样计算的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34" name="组合 23559"/>
          <p:cNvGrpSpPr/>
          <p:nvPr/>
        </p:nvGrpSpPr>
        <p:grpSpPr>
          <a:xfrm>
            <a:off x="3376440" y="1379520"/>
            <a:ext cx="504720" cy="815400"/>
            <a:chOff x="3376440" y="1379520"/>
            <a:chExt cx="504720" cy="815400"/>
          </a:xfrm>
        </p:grpSpPr>
        <p:sp>
          <p:nvSpPr>
            <p:cNvPr id="2135" name="文本框 23560"/>
            <p:cNvSpPr/>
            <p:nvPr/>
          </p:nvSpPr>
          <p:spPr>
            <a:xfrm>
              <a:off x="3376440" y="17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6" name="文本框 23561"/>
            <p:cNvSpPr/>
            <p:nvPr/>
          </p:nvSpPr>
          <p:spPr>
            <a:xfrm>
              <a:off x="3447720" y="1379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7" name="直接连接符 23562"/>
            <p:cNvSpPr/>
            <p:nvPr/>
          </p:nvSpPr>
          <p:spPr>
            <a:xfrm>
              <a:off x="3425760" y="1798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38" name="图片 23563" descr="04"/>
          <p:cNvPicPr/>
          <p:nvPr/>
        </p:nvPicPr>
        <p:blipFill>
          <a:blip r:embed="rId1"/>
          <a:stretch/>
        </p:blipFill>
        <p:spPr>
          <a:xfrm>
            <a:off x="1119240" y="2176560"/>
            <a:ext cx="4189320" cy="1800000"/>
          </a:xfrm>
          <a:prstGeom prst="rect">
            <a:avLst/>
          </a:prstGeom>
          <a:ln w="0">
            <a:noFill/>
          </a:ln>
        </p:spPr>
      </p:pic>
      <p:sp>
        <p:nvSpPr>
          <p:cNvPr id="2139" name="文本框 23564"/>
          <p:cNvSpPr/>
          <p:nvPr/>
        </p:nvSpPr>
        <p:spPr>
          <a:xfrm>
            <a:off x="7236000" y="2881440"/>
            <a:ext cx="93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40" name="组合 23565"/>
          <p:cNvGrpSpPr/>
          <p:nvPr/>
        </p:nvGrpSpPr>
        <p:grpSpPr>
          <a:xfrm>
            <a:off x="1563840" y="5262480"/>
            <a:ext cx="2604960" cy="815400"/>
            <a:chOff x="1563840" y="5262480"/>
            <a:chExt cx="2604960" cy="815400"/>
          </a:xfrm>
        </p:grpSpPr>
        <p:sp>
          <p:nvSpPr>
            <p:cNvPr id="2141" name="Rectangle 2"/>
            <p:cNvSpPr/>
            <p:nvPr/>
          </p:nvSpPr>
          <p:spPr>
            <a:xfrm>
              <a:off x="1563840" y="5435640"/>
              <a:ext cx="1158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42" name="组合 23567"/>
            <p:cNvGrpSpPr/>
            <p:nvPr/>
          </p:nvGrpSpPr>
          <p:grpSpPr>
            <a:xfrm>
              <a:off x="2502000" y="5262480"/>
              <a:ext cx="1666800" cy="815400"/>
              <a:chOff x="2502000" y="5262480"/>
              <a:chExt cx="1666800" cy="815400"/>
            </a:xfrm>
          </p:grpSpPr>
          <p:sp>
            <p:nvSpPr>
              <p:cNvPr id="2143" name="文本框 23568"/>
              <p:cNvSpPr/>
              <p:nvPr/>
            </p:nvSpPr>
            <p:spPr>
              <a:xfrm>
                <a:off x="2862360" y="5479920"/>
                <a:ext cx="109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44" name="组合 23569"/>
              <p:cNvGrpSpPr/>
              <p:nvPr/>
            </p:nvGrpSpPr>
            <p:grpSpPr>
              <a:xfrm>
                <a:off x="2502000" y="5262480"/>
                <a:ext cx="504720" cy="815400"/>
                <a:chOff x="2502000" y="5262480"/>
                <a:chExt cx="504720" cy="815400"/>
              </a:xfrm>
            </p:grpSpPr>
            <p:sp>
              <p:nvSpPr>
                <p:cNvPr id="2145" name="文本框 23570"/>
                <p:cNvSpPr/>
                <p:nvPr/>
              </p:nvSpPr>
              <p:spPr>
                <a:xfrm>
                  <a:off x="2502000" y="5618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46" name="文本框 23571"/>
                <p:cNvSpPr/>
                <p:nvPr/>
              </p:nvSpPr>
              <p:spPr>
                <a:xfrm>
                  <a:off x="2573280" y="5262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47" name="直接连接符 23572"/>
                <p:cNvSpPr/>
                <p:nvPr/>
              </p:nvSpPr>
              <p:spPr>
                <a:xfrm>
                  <a:off x="2551320" y="5681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48" name="组合 23573"/>
              <p:cNvGrpSpPr/>
              <p:nvPr/>
            </p:nvGrpSpPr>
            <p:grpSpPr>
              <a:xfrm>
                <a:off x="3664080" y="5262480"/>
                <a:ext cx="504720" cy="815400"/>
                <a:chOff x="3664080" y="5262480"/>
                <a:chExt cx="504720" cy="815400"/>
              </a:xfrm>
            </p:grpSpPr>
            <p:sp>
              <p:nvSpPr>
                <p:cNvPr id="2149" name="文本框 23574"/>
                <p:cNvSpPr/>
                <p:nvPr/>
              </p:nvSpPr>
              <p:spPr>
                <a:xfrm>
                  <a:off x="3664080" y="5618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0" name="文本框 23575"/>
                <p:cNvSpPr/>
                <p:nvPr/>
              </p:nvSpPr>
              <p:spPr>
                <a:xfrm>
                  <a:off x="3735360" y="5262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1" name="直接连接符 23576"/>
                <p:cNvSpPr/>
                <p:nvPr/>
              </p:nvSpPr>
              <p:spPr>
                <a:xfrm>
                  <a:off x="3713400" y="5681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152" name="组合 23577"/>
          <p:cNvGrpSpPr/>
          <p:nvPr/>
        </p:nvGrpSpPr>
        <p:grpSpPr>
          <a:xfrm>
            <a:off x="4402080" y="5208480"/>
            <a:ext cx="2719440" cy="815040"/>
            <a:chOff x="4402080" y="5208480"/>
            <a:chExt cx="2719440" cy="815040"/>
          </a:xfrm>
        </p:grpSpPr>
        <p:sp>
          <p:nvSpPr>
            <p:cNvPr id="2153" name="Rectangle 2"/>
            <p:cNvSpPr/>
            <p:nvPr/>
          </p:nvSpPr>
          <p:spPr>
            <a:xfrm>
              <a:off x="4402080" y="5435640"/>
              <a:ext cx="1231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54" name="组合 23579"/>
            <p:cNvGrpSpPr/>
            <p:nvPr/>
          </p:nvGrpSpPr>
          <p:grpSpPr>
            <a:xfrm>
              <a:off x="5276880" y="5208480"/>
              <a:ext cx="1844640" cy="815040"/>
              <a:chOff x="5276880" y="5208480"/>
              <a:chExt cx="1844640" cy="815040"/>
            </a:xfrm>
          </p:grpSpPr>
          <p:sp>
            <p:nvSpPr>
              <p:cNvPr id="2155" name="文本框 23580"/>
              <p:cNvSpPr/>
              <p:nvPr/>
            </p:nvSpPr>
            <p:spPr>
              <a:xfrm>
                <a:off x="5276880" y="5445000"/>
                <a:ext cx="7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56" name="组合 23581"/>
              <p:cNvGrpSpPr/>
              <p:nvPr/>
            </p:nvGrpSpPr>
            <p:grpSpPr>
              <a:xfrm>
                <a:off x="5869080" y="5208480"/>
                <a:ext cx="504720" cy="815040"/>
                <a:chOff x="5869080" y="5208480"/>
                <a:chExt cx="504720" cy="815040"/>
              </a:xfrm>
            </p:grpSpPr>
            <p:sp>
              <p:nvSpPr>
                <p:cNvPr id="2157" name="文本框 23582"/>
                <p:cNvSpPr/>
                <p:nvPr/>
              </p:nvSpPr>
              <p:spPr>
                <a:xfrm>
                  <a:off x="5869080" y="55638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8" name="文本框 23583"/>
                <p:cNvSpPr/>
                <p:nvPr/>
              </p:nvSpPr>
              <p:spPr>
                <a:xfrm>
                  <a:off x="5940360" y="520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9" name="直接连接符 23584"/>
                <p:cNvSpPr/>
                <p:nvPr/>
              </p:nvSpPr>
              <p:spPr>
                <a:xfrm>
                  <a:off x="5918400" y="562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60" name="组合 23585"/>
              <p:cNvGrpSpPr/>
              <p:nvPr/>
            </p:nvGrpSpPr>
            <p:grpSpPr>
              <a:xfrm>
                <a:off x="6616800" y="5208480"/>
                <a:ext cx="504720" cy="815040"/>
                <a:chOff x="6616800" y="5208480"/>
                <a:chExt cx="504720" cy="815040"/>
              </a:xfrm>
            </p:grpSpPr>
            <p:sp>
              <p:nvSpPr>
                <p:cNvPr id="2161" name="文本框 23586"/>
                <p:cNvSpPr/>
                <p:nvPr/>
              </p:nvSpPr>
              <p:spPr>
                <a:xfrm>
                  <a:off x="6616800" y="55638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62" name="文本框 23587"/>
                <p:cNvSpPr/>
                <p:nvPr/>
              </p:nvSpPr>
              <p:spPr>
                <a:xfrm>
                  <a:off x="6688080" y="520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63" name="直接连接符 23588"/>
                <p:cNvSpPr/>
                <p:nvPr/>
              </p:nvSpPr>
              <p:spPr>
                <a:xfrm>
                  <a:off x="6666120" y="562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64" name="文本框 23589"/>
              <p:cNvSpPr/>
              <p:nvPr/>
            </p:nvSpPr>
            <p:spPr>
              <a:xfrm>
                <a:off x="6234120" y="5425920"/>
                <a:ext cx="57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6" name="Rectangle 2"/>
          <p:cNvSpPr/>
          <p:nvPr/>
        </p:nvSpPr>
        <p:spPr>
          <a:xfrm>
            <a:off x="826920" y="143676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直接说出得数。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7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直接说出得数，并说说你是怎样想的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8" name="Text Box 55"/>
          <p:cNvSpPr/>
          <p:nvPr/>
        </p:nvSpPr>
        <p:spPr>
          <a:xfrm flipV="1" rot="10800000">
            <a:off x="2438280" y="384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69" name="组合 24581"/>
          <p:cNvGrpSpPr/>
          <p:nvPr/>
        </p:nvGrpSpPr>
        <p:grpSpPr>
          <a:xfrm>
            <a:off x="1609560" y="2124000"/>
            <a:ext cx="1454400" cy="815400"/>
            <a:chOff x="1609560" y="2124000"/>
            <a:chExt cx="1454400" cy="815400"/>
          </a:xfrm>
        </p:grpSpPr>
        <p:sp>
          <p:nvSpPr>
            <p:cNvPr id="2170" name="文本框 24582"/>
            <p:cNvSpPr/>
            <p:nvPr/>
          </p:nvSpPr>
          <p:spPr>
            <a:xfrm>
              <a:off x="1969920" y="2341440"/>
              <a:ext cx="109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71" name="组合 24583"/>
            <p:cNvGrpSpPr/>
            <p:nvPr/>
          </p:nvGrpSpPr>
          <p:grpSpPr>
            <a:xfrm>
              <a:off x="1609560" y="2124000"/>
              <a:ext cx="504720" cy="815400"/>
              <a:chOff x="1609560" y="2124000"/>
              <a:chExt cx="504720" cy="815400"/>
            </a:xfrm>
          </p:grpSpPr>
          <p:sp>
            <p:nvSpPr>
              <p:cNvPr id="2172" name="文本框 24584"/>
              <p:cNvSpPr/>
              <p:nvPr/>
            </p:nvSpPr>
            <p:spPr>
              <a:xfrm>
                <a:off x="1609560" y="2479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3" name="文本框 24585"/>
              <p:cNvSpPr/>
              <p:nvPr/>
            </p:nvSpPr>
            <p:spPr>
              <a:xfrm>
                <a:off x="1680840" y="2124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4" name="直接连接符 24586"/>
              <p:cNvSpPr/>
              <p:nvPr/>
            </p:nvSpPr>
            <p:spPr>
              <a:xfrm>
                <a:off x="1658880" y="2543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75" name="组合 24587"/>
          <p:cNvGrpSpPr/>
          <p:nvPr/>
        </p:nvGrpSpPr>
        <p:grpSpPr>
          <a:xfrm>
            <a:off x="3949560" y="2120760"/>
            <a:ext cx="1454400" cy="815400"/>
            <a:chOff x="3949560" y="2120760"/>
            <a:chExt cx="1454400" cy="815400"/>
          </a:xfrm>
        </p:grpSpPr>
        <p:sp>
          <p:nvSpPr>
            <p:cNvPr id="2176" name="文本框 24588"/>
            <p:cNvSpPr/>
            <p:nvPr/>
          </p:nvSpPr>
          <p:spPr>
            <a:xfrm>
              <a:off x="4309920" y="2338200"/>
              <a:ext cx="109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77" name="组合 24589"/>
            <p:cNvGrpSpPr/>
            <p:nvPr/>
          </p:nvGrpSpPr>
          <p:grpSpPr>
            <a:xfrm>
              <a:off x="3949560" y="2120760"/>
              <a:ext cx="504720" cy="815400"/>
              <a:chOff x="3949560" y="2120760"/>
              <a:chExt cx="504720" cy="815400"/>
            </a:xfrm>
          </p:grpSpPr>
          <p:sp>
            <p:nvSpPr>
              <p:cNvPr id="2178" name="文本框 24590"/>
              <p:cNvSpPr/>
              <p:nvPr/>
            </p:nvSpPr>
            <p:spPr>
              <a:xfrm>
                <a:off x="3949560" y="2476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9" name="文本框 24591"/>
              <p:cNvSpPr/>
              <p:nvPr/>
            </p:nvSpPr>
            <p:spPr>
              <a:xfrm>
                <a:off x="4020840" y="2120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80" name="直接连接符 24592"/>
              <p:cNvSpPr/>
              <p:nvPr/>
            </p:nvSpPr>
            <p:spPr>
              <a:xfrm>
                <a:off x="3998880" y="2540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81" name="组合 24593"/>
          <p:cNvGrpSpPr/>
          <p:nvPr/>
        </p:nvGrpSpPr>
        <p:grpSpPr>
          <a:xfrm>
            <a:off x="6256440" y="3592440"/>
            <a:ext cx="1396800" cy="815040"/>
            <a:chOff x="6256440" y="3592440"/>
            <a:chExt cx="1396800" cy="815040"/>
          </a:xfrm>
        </p:grpSpPr>
        <p:sp>
          <p:nvSpPr>
            <p:cNvPr id="2182" name="文本框 24594"/>
            <p:cNvSpPr/>
            <p:nvPr/>
          </p:nvSpPr>
          <p:spPr>
            <a:xfrm>
              <a:off x="6559560" y="38098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3" name="文本框 24595"/>
            <p:cNvSpPr/>
            <p:nvPr/>
          </p:nvSpPr>
          <p:spPr>
            <a:xfrm>
              <a:off x="6256440" y="3947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4" name="文本框 24596"/>
            <p:cNvSpPr/>
            <p:nvPr/>
          </p:nvSpPr>
          <p:spPr>
            <a:xfrm>
              <a:off x="6270480" y="3592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5" name="直接连接符 24597"/>
            <p:cNvSpPr/>
            <p:nvPr/>
          </p:nvSpPr>
          <p:spPr>
            <a:xfrm>
              <a:off x="6276960" y="40114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86" name="组合 24598"/>
          <p:cNvGrpSpPr/>
          <p:nvPr/>
        </p:nvGrpSpPr>
        <p:grpSpPr>
          <a:xfrm>
            <a:off x="4044960" y="3606840"/>
            <a:ext cx="1396800" cy="815040"/>
            <a:chOff x="4044960" y="3606840"/>
            <a:chExt cx="1396800" cy="815040"/>
          </a:xfrm>
        </p:grpSpPr>
        <p:sp>
          <p:nvSpPr>
            <p:cNvPr id="2187" name="文本框 24599"/>
            <p:cNvSpPr/>
            <p:nvPr/>
          </p:nvSpPr>
          <p:spPr>
            <a:xfrm>
              <a:off x="4348080" y="38242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8" name="文本框 24600"/>
            <p:cNvSpPr/>
            <p:nvPr/>
          </p:nvSpPr>
          <p:spPr>
            <a:xfrm>
              <a:off x="4044960" y="3962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9" name="文本框 24601"/>
            <p:cNvSpPr/>
            <p:nvPr/>
          </p:nvSpPr>
          <p:spPr>
            <a:xfrm>
              <a:off x="4059000" y="3606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0" name="直接连接符 24602"/>
            <p:cNvSpPr/>
            <p:nvPr/>
          </p:nvSpPr>
          <p:spPr>
            <a:xfrm>
              <a:off x="4065480" y="40258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1" name="组合 24603"/>
          <p:cNvGrpSpPr/>
          <p:nvPr/>
        </p:nvGrpSpPr>
        <p:grpSpPr>
          <a:xfrm>
            <a:off x="1706400" y="3611520"/>
            <a:ext cx="1396800" cy="815040"/>
            <a:chOff x="1706400" y="3611520"/>
            <a:chExt cx="1396800" cy="815040"/>
          </a:xfrm>
        </p:grpSpPr>
        <p:sp>
          <p:nvSpPr>
            <p:cNvPr id="2192" name="文本框 24604"/>
            <p:cNvSpPr/>
            <p:nvPr/>
          </p:nvSpPr>
          <p:spPr>
            <a:xfrm>
              <a:off x="2009520" y="382896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3" name="文本框 24605"/>
            <p:cNvSpPr/>
            <p:nvPr/>
          </p:nvSpPr>
          <p:spPr>
            <a:xfrm>
              <a:off x="1706400" y="3966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4" name="文本框 24606"/>
            <p:cNvSpPr/>
            <p:nvPr/>
          </p:nvSpPr>
          <p:spPr>
            <a:xfrm>
              <a:off x="1720440" y="3611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5" name="直接连接符 24607"/>
            <p:cNvSpPr/>
            <p:nvPr/>
          </p:nvSpPr>
          <p:spPr>
            <a:xfrm>
              <a:off x="1726920" y="4030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6" name="组合 24608"/>
          <p:cNvGrpSpPr/>
          <p:nvPr/>
        </p:nvGrpSpPr>
        <p:grpSpPr>
          <a:xfrm>
            <a:off x="6202440" y="2133720"/>
            <a:ext cx="1014480" cy="815040"/>
            <a:chOff x="6202440" y="2133720"/>
            <a:chExt cx="1014480" cy="815040"/>
          </a:xfrm>
        </p:grpSpPr>
        <p:sp>
          <p:nvSpPr>
            <p:cNvPr id="2197" name="文本框 24609"/>
            <p:cNvSpPr/>
            <p:nvPr/>
          </p:nvSpPr>
          <p:spPr>
            <a:xfrm>
              <a:off x="6202440" y="23605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98" name="组合 24610"/>
            <p:cNvGrpSpPr/>
            <p:nvPr/>
          </p:nvGrpSpPr>
          <p:grpSpPr>
            <a:xfrm>
              <a:off x="6707520" y="2133720"/>
              <a:ext cx="509400" cy="815040"/>
              <a:chOff x="6707520" y="2133720"/>
              <a:chExt cx="509400" cy="815040"/>
            </a:xfrm>
          </p:grpSpPr>
          <p:sp>
            <p:nvSpPr>
              <p:cNvPr id="2199" name="文本框 24611"/>
              <p:cNvSpPr/>
              <p:nvPr/>
            </p:nvSpPr>
            <p:spPr>
              <a:xfrm>
                <a:off x="6712200" y="24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0" name="文本框 24612"/>
              <p:cNvSpPr/>
              <p:nvPr/>
            </p:nvSpPr>
            <p:spPr>
              <a:xfrm>
                <a:off x="6707520" y="21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1" name="直接连接符 24613"/>
              <p:cNvSpPr/>
              <p:nvPr/>
            </p:nvSpPr>
            <p:spPr>
              <a:xfrm>
                <a:off x="6723360" y="255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02" name="组合 24614"/>
          <p:cNvGrpSpPr/>
          <p:nvPr/>
        </p:nvGrpSpPr>
        <p:grpSpPr>
          <a:xfrm>
            <a:off x="2411280" y="2124000"/>
            <a:ext cx="906480" cy="815400"/>
            <a:chOff x="2411280" y="2124000"/>
            <a:chExt cx="906480" cy="815400"/>
          </a:xfrm>
        </p:grpSpPr>
        <p:sp>
          <p:nvSpPr>
            <p:cNvPr id="2203" name="文本框 24615"/>
            <p:cNvSpPr/>
            <p:nvPr/>
          </p:nvSpPr>
          <p:spPr>
            <a:xfrm>
              <a:off x="2813040" y="2479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4" name="文本框 24616"/>
            <p:cNvSpPr/>
            <p:nvPr/>
          </p:nvSpPr>
          <p:spPr>
            <a:xfrm>
              <a:off x="2884320" y="212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5" name="直接连接符 24617"/>
            <p:cNvSpPr/>
            <p:nvPr/>
          </p:nvSpPr>
          <p:spPr>
            <a:xfrm>
              <a:off x="2862360" y="254304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6" name="文本框 24618"/>
            <p:cNvSpPr/>
            <p:nvPr/>
          </p:nvSpPr>
          <p:spPr>
            <a:xfrm>
              <a:off x="2411280" y="2340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07" name="组合 24619"/>
          <p:cNvGrpSpPr/>
          <p:nvPr/>
        </p:nvGrpSpPr>
        <p:grpSpPr>
          <a:xfrm>
            <a:off x="4716360" y="2120760"/>
            <a:ext cx="1055520" cy="805680"/>
            <a:chOff x="4716360" y="2120760"/>
            <a:chExt cx="1055520" cy="805680"/>
          </a:xfrm>
        </p:grpSpPr>
        <p:grpSp>
          <p:nvGrpSpPr>
            <p:cNvPr id="2208" name="组合 24620"/>
            <p:cNvGrpSpPr/>
            <p:nvPr/>
          </p:nvGrpSpPr>
          <p:grpSpPr>
            <a:xfrm>
              <a:off x="4716360" y="2120760"/>
              <a:ext cx="1055520" cy="805680"/>
              <a:chOff x="4716360" y="2120760"/>
              <a:chExt cx="1055520" cy="805680"/>
            </a:xfrm>
          </p:grpSpPr>
          <p:sp>
            <p:nvSpPr>
              <p:cNvPr id="2209" name="文本框 24621"/>
              <p:cNvSpPr/>
              <p:nvPr/>
            </p:nvSpPr>
            <p:spPr>
              <a:xfrm>
                <a:off x="4716360" y="23270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0" name="文本框 24622"/>
              <p:cNvSpPr/>
              <p:nvPr/>
            </p:nvSpPr>
            <p:spPr>
              <a:xfrm>
                <a:off x="5155920" y="246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1" name="文本框 24623"/>
              <p:cNvSpPr/>
              <p:nvPr/>
            </p:nvSpPr>
            <p:spPr>
              <a:xfrm>
                <a:off x="5092560" y="2120760"/>
                <a:ext cx="6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212" name="直接连接符 24624"/>
            <p:cNvSpPr/>
            <p:nvPr/>
          </p:nvSpPr>
          <p:spPr>
            <a:xfrm>
              <a:off x="5149800" y="2530080"/>
              <a:ext cx="358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13" name="组合 24625"/>
          <p:cNvGrpSpPr/>
          <p:nvPr/>
        </p:nvGrpSpPr>
        <p:grpSpPr>
          <a:xfrm>
            <a:off x="6958080" y="2152800"/>
            <a:ext cx="1093320" cy="805680"/>
            <a:chOff x="6958080" y="2152800"/>
            <a:chExt cx="1093320" cy="805680"/>
          </a:xfrm>
        </p:grpSpPr>
        <p:sp>
          <p:nvSpPr>
            <p:cNvPr id="2214" name="文本框 24626"/>
            <p:cNvSpPr/>
            <p:nvPr/>
          </p:nvSpPr>
          <p:spPr>
            <a:xfrm>
              <a:off x="6958080" y="2358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5" name="文本框 24627"/>
            <p:cNvSpPr/>
            <p:nvPr/>
          </p:nvSpPr>
          <p:spPr>
            <a:xfrm>
              <a:off x="7378560" y="24987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6" name="文本框 24628"/>
            <p:cNvSpPr/>
            <p:nvPr/>
          </p:nvSpPr>
          <p:spPr>
            <a:xfrm>
              <a:off x="7372080" y="215280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7" name="直接连接符 24629"/>
            <p:cNvSpPr/>
            <p:nvPr/>
          </p:nvSpPr>
          <p:spPr>
            <a:xfrm>
              <a:off x="7391160" y="257472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18" name="组合 24630"/>
          <p:cNvGrpSpPr/>
          <p:nvPr/>
        </p:nvGrpSpPr>
        <p:grpSpPr>
          <a:xfrm>
            <a:off x="4749840" y="3602160"/>
            <a:ext cx="1093680" cy="805680"/>
            <a:chOff x="4749840" y="3602160"/>
            <a:chExt cx="1093680" cy="805680"/>
          </a:xfrm>
        </p:grpSpPr>
        <p:sp>
          <p:nvSpPr>
            <p:cNvPr id="2219" name="文本框 24631"/>
            <p:cNvSpPr/>
            <p:nvPr/>
          </p:nvSpPr>
          <p:spPr>
            <a:xfrm>
              <a:off x="4749840" y="3808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0" name="文本框 24632"/>
            <p:cNvSpPr/>
            <p:nvPr/>
          </p:nvSpPr>
          <p:spPr>
            <a:xfrm>
              <a:off x="5170320" y="39481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1" name="文本框 24633"/>
            <p:cNvSpPr/>
            <p:nvPr/>
          </p:nvSpPr>
          <p:spPr>
            <a:xfrm>
              <a:off x="5164200" y="36021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2" name="直接连接符 24634"/>
            <p:cNvSpPr/>
            <p:nvPr/>
          </p:nvSpPr>
          <p:spPr>
            <a:xfrm>
              <a:off x="5183280" y="40244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23" name="组合 24635"/>
          <p:cNvGrpSpPr/>
          <p:nvPr/>
        </p:nvGrpSpPr>
        <p:grpSpPr>
          <a:xfrm>
            <a:off x="6981840" y="3592440"/>
            <a:ext cx="1093680" cy="806040"/>
            <a:chOff x="6981840" y="3592440"/>
            <a:chExt cx="1093680" cy="806040"/>
          </a:xfrm>
        </p:grpSpPr>
        <p:sp>
          <p:nvSpPr>
            <p:cNvPr id="2224" name="文本框 24636"/>
            <p:cNvSpPr/>
            <p:nvPr/>
          </p:nvSpPr>
          <p:spPr>
            <a:xfrm>
              <a:off x="6981840" y="3798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5" name="文本框 24637"/>
            <p:cNvSpPr/>
            <p:nvPr/>
          </p:nvSpPr>
          <p:spPr>
            <a:xfrm>
              <a:off x="7402680" y="3938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6" name="文本框 24638"/>
            <p:cNvSpPr/>
            <p:nvPr/>
          </p:nvSpPr>
          <p:spPr>
            <a:xfrm>
              <a:off x="7396200" y="35924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7" name="直接连接符 24639"/>
            <p:cNvSpPr/>
            <p:nvPr/>
          </p:nvSpPr>
          <p:spPr>
            <a:xfrm>
              <a:off x="7415280" y="4014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全课总结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9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今天都有哪些收获？还有什么问题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232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Good Bye!</a:t>
            </a:r>
            <a:endParaRPr b="1" i="1" lang="en-US" sz="32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33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34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235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1" lang="en-US" sz="66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36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4:00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